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7594-94F5-4163-8165-D0CD86E3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52B4-F2F3-48A1-9205-DF59E8FF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573B-FDD7-45CE-BB5F-502397EC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D5C2-F4BC-4E38-953F-F88A77DC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3B0B-E50E-4E9B-AB01-CBBAFDFF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CB6A-A11C-4242-A7E5-F43B0804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D56C-6C77-4466-B924-3300C6BE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A5FF-55AD-4069-9225-C38DAB0B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AEBA-C116-4253-8E13-23BDD1CA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B9DC-FE10-413D-803E-F4D240A6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2025-3FD1-48DA-A21F-337048C4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B1F6-AA15-4F39-8F86-8D4619F1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1046-18F1-403C-907C-84B8092C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2F34-5A26-406E-BABD-7BCF4ACA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1DCC-B0CE-46F3-AA55-95546EB8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CAFB-0A4B-439A-8C32-F0893279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D7E5-5828-424E-8E26-35C6CE32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34F3-3DC6-4135-A636-21E7E571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26A6-2043-445C-8F64-B49F0C35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DDAD-F3F7-4466-8578-04111DAD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B21A-46B4-4CC8-9FE5-C6AB7EDD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80CC-F134-44E1-9CAA-941F2AAB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F422-7B5A-4AFD-B2CE-3E986C34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FCC3-B8EC-4058-B6B2-5A4F1945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39BA-3CAB-46A0-9072-997E8C6C2FA4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746E-36C5-4CC7-8429-594D488FEB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90612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63520"/>
            <a:ext cx="990612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1960"/>
            <a:ext cx="990612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5160"/>
            <a:ext cx="990612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82720" y="1522440"/>
            <a:ext cx="722340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43400"/>
            <a:ext cx="990612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52840"/>
            <a:ext cx="675648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A804-206C-4A5E-860F-AAAA6CE77008}" type="datetime3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1AE6-9D76-460E-B937-03AD6F9984D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reibholz@bigfoot.com" TargetMode="External"/><Relationship Id="rId2" Type="http://schemas.openxmlformats.org/officeDocument/2006/relationships/hyperlink" Target="http://ibm.rhrz.uni-bonn.de/~uzs6pq" TargetMode="External"/><Relationship Id="rId3" Type="http://schemas.openxmlformats.org/officeDocument/2006/relationships/hyperlink" Target="http://ibm.rhrz.uni-bonn.de/~uzs6pq" TargetMode="External"/><Relationship Id="rId4" Type="http://schemas.openxmlformats.org/officeDocument/2006/relationships/hyperlink" Target="http://ibm.rhrz.uni-bonn.de/~uzs6pq" TargetMode="External"/><Relationship Id="rId5" Type="http://schemas.openxmlformats.org/officeDocument/2006/relationships/hyperlink" Target="http://ibm.rhrz.uni-bonn.de/~uzs6pq" TargetMode="External"/><Relationship Id="rId6" Type="http://schemas.openxmlformats.org/officeDocument/2006/relationships/hyperlink" Target="http://ibm.rhrz.uni-bonn.de/~uzs6pq" TargetMode="External"/><Relationship Id="rId7" Type="http://schemas.openxmlformats.org/officeDocument/2006/relationships/hyperlink" Target="http://ibm.rhrz.uni-bonn.de/~uzs6pq" TargetMode="External"/><Relationship Id="rId8" Type="http://schemas.openxmlformats.org/officeDocument/2006/relationships/hyperlink" Target="http://ibm.rhrz.uni-bonn.de/~uzs6pq" TargetMode="External"/><Relationship Id="rId9" Type="http://schemas.openxmlformats.org/officeDocument/2006/relationships/hyperlink" Target="http://ibm.rhrz.uni-bonn.de/~uzs6pq" TargetMode="External"/><Relationship Id="rId10" Type="http://schemas.openxmlformats.org/officeDocument/2006/relationships/hyperlink" Target="http://ibm.rhrz.uni-bonn.de/~uzs6pq" TargetMode="External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8502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cc00"/>
                </a:solidFill>
                <a:latin typeface="Times New Roman"/>
              </a:rPr>
              <a:t>Seminar „Fortgeschrittene Techniken der Datenbanken“, WS 1998/99</a:t>
            </a:r>
            <a:br>
              <a:rPr sz="1000"/>
            </a:br>
            <a:r>
              <a:rPr b="0" lang="de-DE" sz="4400" spc="-1" strike="noStrike">
                <a:solidFill>
                  <a:srgbClr val="ffcc00"/>
                </a:solidFill>
                <a:latin typeface="Times New Roman"/>
              </a:rPr>
              <a:t>Data Warehousing und OLAP: Cubetre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3880" y="2590920"/>
            <a:ext cx="6934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n Thomas Dreibhol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Dreibholz@bigfoot.com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ffffff"/>
                </a:solidFill>
                <a:latin typeface="Times New Roman"/>
              </a:rPr>
              <a:t>Folien und Ausarbeitung sind zu finden unter der UR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de-DE" sz="15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de-DE" sz="1500" spc="-1" strike="noStrike" u="sng">
                <a:solidFill>
                  <a:srgbClr val="9999ff"/>
                </a:solidFill>
                <a:uFillTx/>
                <a:latin typeface="Times New Roman"/>
                <a:hlinkClick r:id="rId4"/>
              </a:rPr>
              <a:t>ibm</a:t>
            </a:r>
            <a:r>
              <a:rPr b="0" lang="de-DE" sz="1500" spc="-1" strike="noStrike" u="sng">
                <a:solidFill>
                  <a:srgbClr val="99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de-DE" sz="1500" spc="-1" strike="noStrike" u="sng">
                <a:solidFill>
                  <a:srgbClr val="9999ff"/>
                </a:solidFill>
                <a:uFillTx/>
                <a:latin typeface="Times New Roman"/>
                <a:hlinkClick r:id="rId6"/>
              </a:rPr>
              <a:t>rhrz</a:t>
            </a:r>
            <a:r>
              <a:rPr b="0" lang="de-DE" sz="1500" spc="-1" strike="noStrike" u="sng">
                <a:solidFill>
                  <a:srgbClr val="9999ff"/>
                </a:solidFill>
                <a:uFillTx/>
                <a:latin typeface="Times New Roman"/>
                <a:hlinkClick r:id="rId7"/>
              </a:rPr>
              <a:t>.uni-</a:t>
            </a:r>
            <a:r>
              <a:rPr b="0" lang="de-DE" sz="1500" spc="-1" strike="noStrike" u="sng">
                <a:solidFill>
                  <a:srgbClr val="9999ff"/>
                </a:solidFill>
                <a:uFillTx/>
                <a:latin typeface="Times New Roman"/>
                <a:hlinkClick r:id="rId8"/>
              </a:rPr>
              <a:t>bonn</a:t>
            </a:r>
            <a:r>
              <a:rPr b="0" lang="de-DE" sz="1500" spc="-1" strike="noStrike" u="sng">
                <a:solidFill>
                  <a:srgbClr val="9999ff"/>
                </a:solidFill>
                <a:uFillTx/>
                <a:latin typeface="Times New Roman"/>
                <a:hlinkClick r:id="rId9"/>
              </a:rPr>
              <a:t>.de/~uzs6pq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 u="sng">
                <a:solidFill>
                  <a:srgbClr val="9999ff"/>
                </a:solidFill>
                <a:uFillTx/>
                <a:latin typeface="Times New Roman"/>
                <a:hlinkClick r:id="rId10"/>
              </a:rPr>
              <a:t>V</a:t>
            </a:r>
            <a:r>
              <a:rPr b="0" lang="de-DE" sz="1500" spc="-1" strike="noStrike" u="sng">
                <a:solidFill>
                  <a:srgbClr val="ffffff"/>
                </a:solidFill>
                <a:uFillTx/>
                <a:latin typeface="Times New Roman"/>
              </a:rPr>
              <a:t>erwendete Papers:</a:t>
            </a:r>
            <a:br>
              <a:rPr sz="1500"/>
            </a:b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Yannis Kotidis, Nick Roussopoulos, Mema Roussopoulos: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“Cubetree: Organization of and Bulk Incremental Updates on the Data Cube”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SIGMOD Conference 1997: 89-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Yannis Kotidis, Nick Roussopoulos: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“An Alternative Storage Organization for ROLAP Aggregate Views Based on Cubetrees”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SIGMOD Conference 1998: 249-25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5366-F1EE-40A8-9299-B9A31989F327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2.3 Clustering (I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ort-Pack reduzi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ich überlappende Räu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unbelegte Räume (engl. dead space)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(Unbelegte Räume = Große Gebiete im R-Baum mit verhältnismäßig kleinen mit Daten gefüllten Bereiche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ögliche Sortierschlüssel: z.B. „A aufsteigend“, „B aufsteigend“ oder „A und B aufsteigend“ usw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ffff"/>
                </a:solidFill>
                <a:uFillTx/>
                <a:latin typeface="Times New Roman"/>
              </a:rPr>
              <a:t>Beispiel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: Cubetree AxBxC mit Sortierordnung A-&gt;B-&gt;C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    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40384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n c-We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m c-We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0716-E63A-448B-9FBF-E3BC317564E1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2.3 Clustering (II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42680" y="152388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m Beispie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Datenpunkte von AC, BC und C </a:t>
            </a:r>
            <a:r>
              <a:rPr b="0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geclustert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nach Dimension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Group-by BC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Für einen Attributwert B sind sämtliche Projektionen nach BC fortlaufend gespeichert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Group-by A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ist </a:t>
            </a:r>
            <a:r>
              <a:rPr b="0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streut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Zwischen allen aufeinanderfolgenden Paaren (p,0,0), (q,0,0) liegen Datenpunkte von AB, AC und ABC mit A=p!</a:t>
            </a:r>
            <a:br>
              <a:rPr sz="1800"/>
            </a:b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Beispiel</a:t>
            </a: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C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1</a:t>
            </a:r>
            <a:br>
              <a:rPr sz="1800"/>
            </a:b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1800"/>
            </a:b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99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Folge: Schlechter werdende Ausführungszeiten durch weiter auseinanderliegende Datenpunkt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4267080"/>
            <a:ext cx="75960" cy="838440"/>
          </a:xfrm>
          <a:custGeom>
            <a:avLst/>
            <a:gdLst>
              <a:gd name="textAreaLeft" fmla="*/ 0 w 75960"/>
              <a:gd name="textAreaRight" fmla="*/ 27360 w 7596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liegen zwischen Group-by nach A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40384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57D7-0B7B-4C32-9AFD-ECFCC46CC0CD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2.3 Clustering (III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2680" y="13712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erdeutlichung der Effizienzunterschiede durch Cluster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Cubetree AxBxC, symmetrisch, 32 MB Größ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ortierordnung: A-&gt;B-&gt;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Werte geben das Verhältnis zum schnellsten Group-by an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ffff"/>
                </a:solidFill>
                <a:uFillTx/>
                <a:latin typeface="Times New Roman"/>
              </a:rPr>
              <a:t>1-dimensionale Group-by‘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125.0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A‘s liegen sehr weit auseinander -&gt; extrem schlecht!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  10.0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B‘s liegen nicht so weit auseinander -&gt;</a:t>
            </a:r>
            <a:br>
              <a:rPr sz="1700"/>
            </a:b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trotzdem schlecht, da C fehlt!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   1.0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Gu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ffff"/>
                </a:solidFill>
                <a:uFillTx/>
                <a:latin typeface="Times New Roman"/>
              </a:rPr>
              <a:t>2-dimensionale Group-by‘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   2.5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Es fehlt der „least significant“-Sortierschlüssel C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AC   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   1.3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Gut, jedoch liegt Schlüssel B zwischen A und C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BC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   1.0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Gu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3352680"/>
            <a:ext cx="381240" cy="304920"/>
          </a:xfrm>
          <a:prstGeom prst="lightningBol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84EE-20D7-46E2-8370-3CCAE94A26C2}" type="slidenum">
              <a:t>12</a:t>
            </a:fld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2.3 Clustering (IV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2680" y="1219320"/>
            <a:ext cx="842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50%-Gesetz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es Clusterings (engl. 50% law):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Clustering nur für 50% der 2</a:t>
            </a:r>
            <a:r>
              <a:rPr b="0" lang="de-DE" sz="20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1 möglichen Group-by‘s gut -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m Rest fehlt „least significant“-Sortierschlüssel =&gt; keine fortlaufende Speicherung!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ffffff"/>
                </a:solidFill>
                <a:uFillTx/>
                <a:latin typeface="Times New Roman"/>
              </a:rPr>
              <a:t>Beispiel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: Cubetree AxBxC mit Sortierordnung A-&gt;B-&gt;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least significant“-Sortierschlüssel: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de-DE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-1 = 7 mögliche Group-by‘s: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, B, C, AB, BC, AC, AB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3 Group-by‘s </a:t>
            </a:r>
            <a:r>
              <a:rPr b="0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ohne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„least significant“-Sortierschlüssel C: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, B, 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Formale Definition für verstreutes Group-by (engl. dispersed group-by):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in Group-by g ist verstreut, wenn zur gegebenen Sortierordnung keine aufeinanderfolgenden Datenpunkte vorhanden sin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EFEE-2175-45DA-97B1-3C4489DC0FDD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2.4.1 Der Dataless Cubetre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87640" y="1981080"/>
            <a:ext cx="437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Ziel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Verbesserung des 50%-Gesetz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Neues Modell: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Dataless Cubetree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Dies ist ein EDM </a:t>
            </a:r>
            <a:r>
              <a:rPr b="0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ohne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die Datenpunkte der Relation, besteht also nur noch aus Aggregatwerte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Raum zwischen Achsen, Ebenen und Hyperebenen ist leer. Nur N der (N-1)-dim. Hyperebenen enthalten die Aggreg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lle </a:t>
            </a:r>
            <a:r>
              <a:rPr b="0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Aggregat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nfragen können wie auf normalem Cubetree beantwortet werd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nzahl der verstreuten Group-by‘s ist 50% minus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58800" y="2514600"/>
          <a:ext cx="3887640" cy="29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2514600"/>
                    <a:ext cx="3887640" cy="2965320"/>
                  </a:xfrm>
                  <a:prstGeom prst="rect">
                    <a:avLst/>
                  </a:prstGeom>
                  <a:ln w="12600">
                    <a:solidFill>
                      <a:srgbClr val="00002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BB4-961A-4528-86C6-45146EB4F64E}" type="slidenum">
              <a:t>14</a:t>
            </a:fld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2.4.2 Der Reduced Cubetre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2680" y="1447560"/>
            <a:ext cx="842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m Dataless Cubetree: Nur geringe Verbesserung des 50%-Gesetz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ufbauend auf Dataless Cubetree: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Reduced Cubetr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N (N-1)-dim. Hyperebenen orthogonal zu jeder anderen -&gt; Unabhängiges Sort-Pack jeder Hyperebene in eigenem R-Ba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Beispiel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In AxBxC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Eigener R-Baum für AB, AC und B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Unabhängiges Sort-Pack dieser R-Bäu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Ergebnis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Reduzierter Speicherverbrauch durch Abbildung auf niedrigere Dimen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nfragebearbeitung wird schneller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ufgaben sind nu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Zuordnung des Group-by‘s jeder Anfrage zu einem der R-Bäu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Finden einer sinnvollen Sortierordn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DE68-D68A-419B-9EEA-00E38FCD77B6}" type="slidenum">
              <a:t>15</a:t>
            </a:fld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2.4.2 Clustering auf Reduced Cubetree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2680" y="1219320"/>
            <a:ext cx="842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Wichtige Definitionen zur Betrachtung des Clustering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ffffff"/>
                </a:solidFill>
                <a:latin typeface="Times New Roman"/>
              </a:rPr>
              <a:t>Das Komplement </a:t>
            </a:r>
            <a:r>
              <a:rPr b="1" i="1" lang="de-DE" sz="1700" spc="-1" strike="noStrike">
                <a:solidFill>
                  <a:srgbClr val="ffffff"/>
                </a:solidFill>
                <a:latin typeface="Times New Roman"/>
              </a:rPr>
              <a:t>complement</a:t>
            </a:r>
            <a:r>
              <a:rPr b="0" i="1" lang="de-DE" sz="1700" spc="-1" strike="noStrike">
                <a:solidFill>
                  <a:srgbClr val="ffffff"/>
                </a:solidFill>
                <a:latin typeface="Times New Roman"/>
              </a:rPr>
              <a:t>(g) eines Group-by’s g eines gegebenen Attributraumes ist die Menge der gruppierenden Attribute, die nicht in diesem Group-by erscheinen. 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Beispiel: Für AxBxC ist </a:t>
            </a:r>
            <a:r>
              <a:rPr b="1" lang="de-DE" sz="1700" spc="-1" strike="noStrike">
                <a:solidFill>
                  <a:srgbClr val="ffffff"/>
                </a:solidFill>
                <a:latin typeface="Times New Roman"/>
              </a:rPr>
              <a:t>complement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(AB)=C und </a:t>
            </a:r>
            <a:r>
              <a:rPr b="1" lang="de-DE" sz="1700" spc="-1" strike="noStrike">
                <a:solidFill>
                  <a:srgbClr val="ffffff"/>
                </a:solidFill>
                <a:latin typeface="Times New Roman"/>
              </a:rPr>
              <a:t>complement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(A)=BC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ffffff"/>
                </a:solidFill>
                <a:latin typeface="Times New Roman"/>
              </a:rPr>
              <a:t>Das Komplement einer Menge von Group-by’s {g</a:t>
            </a:r>
            <a:r>
              <a:rPr b="0" i="1" lang="de-DE" sz="17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de-DE" sz="1700" spc="-1" strike="noStrike">
                <a:solidFill>
                  <a:srgbClr val="ffffff"/>
                </a:solidFill>
                <a:latin typeface="Times New Roman"/>
              </a:rPr>
              <a:t>,..., g</a:t>
            </a:r>
            <a:r>
              <a:rPr b="0" i="1" lang="de-DE" sz="17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de-DE" sz="1700" spc="-1" strike="noStrike">
                <a:solidFill>
                  <a:srgbClr val="ffffff"/>
                </a:solidFill>
                <a:latin typeface="Times New Roman"/>
              </a:rPr>
              <a:t>} ist die Vereinigung der Komplemente aller in der Menge vorkommenden Group-by’s. 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Beispiel: Für AxBxCxDxE ist </a:t>
            </a:r>
            <a:r>
              <a:rPr b="1" lang="de-DE" sz="1700" spc="-1" strike="noStrike">
                <a:solidFill>
                  <a:srgbClr val="ffffff"/>
                </a:solidFill>
                <a:latin typeface="Times New Roman"/>
              </a:rPr>
              <a:t>complement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({AB,BF})=CDE</a:t>
            </a:r>
            <a:r>
              <a:rPr b="0" lang="de-DE" sz="17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ACD=ACDE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ffffff"/>
                </a:solidFill>
                <a:latin typeface="Times New Roman"/>
              </a:rPr>
              <a:t>Zwei Group-by’s sind kompatibel, wenn beide nicht Teilmenge des Komplementes des anderen sind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. Beispiel: Für AxBxCxDxE ist ABD kompatibel mit DE, da ABD</a:t>
            </a:r>
            <a:r>
              <a:rPr b="0" lang="de-DE" sz="17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</a:t>
            </a:r>
            <a:r>
              <a:rPr b="1" lang="de-DE" sz="1700" spc="-1" strike="noStrike">
                <a:solidFill>
                  <a:srgbClr val="ffffff"/>
                </a:solidFill>
                <a:latin typeface="Times New Roman"/>
              </a:rPr>
              <a:t>complement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(DE)=ABC und DE</a:t>
            </a:r>
            <a:r>
              <a:rPr b="0" lang="de-DE" sz="17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</a:t>
            </a:r>
            <a:r>
              <a:rPr b="1" lang="de-DE" sz="1700" spc="-1" strike="noStrike">
                <a:solidFill>
                  <a:srgbClr val="ffffff"/>
                </a:solidFill>
                <a:latin typeface="Times New Roman"/>
              </a:rPr>
              <a:t>complement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(ABC)=CE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ffffff"/>
                </a:solidFill>
                <a:latin typeface="Times New Roman"/>
              </a:rPr>
              <a:t>Ein Group-by ist kompatibel zu einer Menge von Group-by’s, wenn es nicht Teilmenge des Komplementes der Menge ist.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 Beispiel: Für AxBxC ist AC nicht kompatibel mit {AB,BC}, da </a:t>
            </a:r>
            <a:r>
              <a:rPr b="1" lang="de-DE" sz="1700" spc="-1" strike="noStrike">
                <a:solidFill>
                  <a:srgbClr val="ffffff"/>
                </a:solidFill>
                <a:latin typeface="Times New Roman"/>
              </a:rPr>
              <a:t>complement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({AB,BC})=AC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Für kompatible Menge von Group-by‘s existiert eine Sortierordnung </a:t>
            </a:r>
            <a:r>
              <a:rPr b="0" lang="de-DE" sz="2000" spc="-1" strike="noStrike" u="sng">
                <a:solidFill>
                  <a:srgbClr val="ffffff"/>
                </a:solidFill>
                <a:uFillTx/>
                <a:latin typeface="Times New Roman"/>
              </a:rPr>
              <a:t>ohne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verstreute Group-by‘s: Alle Group-by‘s der Menge haben (mindestens ein) gemeinsames Attribut. Dieses wird der „least significant“-Sortierschlüssel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3D4D-3B78-49D6-AD3B-7A8EDE6ECA9E}" type="slidenum">
              <a:t>16</a:t>
            </a:fld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2.4.2 Anfragen auf Reduced Cubetree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9880" y="1371600"/>
            <a:ext cx="5448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Für jede Anfrage zu entscheiden: Welcher der N R-Bäume wird zur Beantwortung benutz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Ein Algorithmus ist notwendig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Betrachte das Gitter des Datacubes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(Bild: Gitter des Datacubes AxBx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Die Knoten der Ebene 1: Group-by‘s der R-Bäu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Restliche Knoten sollen nun kompatiblem R-Baum zugeordnet werd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Problem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: Es gibt extrem viele Zuordnungs-möglichkeite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Für Dimension N:</a:t>
            </a:r>
            <a:br>
              <a:rPr sz="1700"/>
            </a:b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de-DE" sz="17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-1 Knoten =&gt; N^(2</a:t>
            </a:r>
            <a:r>
              <a:rPr b="0" lang="de-DE" sz="17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-N-1) Zuordnungen!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Einfache Suche keine Lösungsmöglichkei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ösung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0" lang="de-DE" sz="2000" spc="-1" strike="noStrike" u="sng">
                <a:solidFill>
                  <a:srgbClr val="ffffff"/>
                </a:solidFill>
                <a:uFillTx/>
                <a:latin typeface="Times New Roman"/>
              </a:rPr>
              <a:t>Approximation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durch Greedy-Algorithm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248520" y="3095640"/>
          <a:ext cx="28940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3095640"/>
                    <a:ext cx="2894040" cy="1600200"/>
                  </a:xfrm>
                  <a:prstGeom prst="rect">
                    <a:avLst/>
                  </a:prstGeom>
                  <a:ln w="12600">
                    <a:solidFill>
                      <a:srgbClr val="00002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A90-9EC3-4EDE-81C4-46DA8828129B}" type="slidenum">
              <a:t>17</a:t>
            </a:fld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Times New Roman"/>
              </a:rPr>
              <a:t>2.4.2 Der AllocateLattice()-Algorithmus (I)</a:t>
            </a:r>
            <a:endParaRPr b="0" lang="en-US" sz="3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883720" cy="3809880"/>
          </a:xfrm>
          <a:prstGeom prst="rect">
            <a:avLst/>
          </a:prstGeom>
          <a:noFill/>
          <a:ln w="12600">
            <a:solidFill>
              <a:srgbClr val="000022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// Der AllocateLattice()-Algorithm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G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{g</a:t>
            </a:r>
            <a:r>
              <a:rPr b="0" lang="de-DE" sz="1600" spc="-1" strike="noStrike" baseline="-10000">
                <a:solidFill>
                  <a:srgbClr val="ffffff"/>
                </a:solidFill>
                <a:latin typeface="Arial"/>
              </a:rPr>
              <a:t>1,i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} , i = 1,..., 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level l = 2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N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each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group-by g at level l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ind G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| G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compatible with g and complement(G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) = Minim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found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G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G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{g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update complement(G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assign g to any of G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that includes all the attributes of 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74880" y="5299200"/>
            <a:ext cx="719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42680" y="5105160"/>
            <a:ext cx="8667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igenschaften der Zuordnung (für realistische N bis etwa 20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erstreute Group-by‘s werden vermied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nzahl der einem R-Baum zugeordneten Knoten ist balanci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A464-3660-4870-8739-A5C0BAE56547}" type="slidenum">
              <a:t>18</a:t>
            </a:fld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2680" y="5331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Times New Roman"/>
              </a:rPr>
              <a:t>2.4.2 Der AllocateLattice()-Algorithmus (II)</a:t>
            </a:r>
            <a:endParaRPr b="0" lang="en-US" sz="3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43040" y="1523880"/>
            <a:ext cx="8502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eispiel #1 zum AllocateLattice()-Algorithmu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Gegeben ist ein Datacube AxBxCxD (also 4-dimension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Ausgabe von AllocateLattice():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{BCD, CD, D}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{ACD, AD, AC, A}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{ABD, BD, AB, B}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{ABC, BC, C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Diese Partitionierung enthält keine verstreuten Group-by‘s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eispiel #2 zum AllocateLattice()-Algorithmu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Gegeben ist ein Datacube AxBxCxDxE (also 5-dimension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Ausgabe von AllocateLattice():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{BCDE, CDE, DE, CE, E, </a:t>
            </a:r>
            <a:r>
              <a:rPr b="1" lang="de-DE" sz="1600" spc="-1" strike="noStrike" u="sng">
                <a:solidFill>
                  <a:srgbClr val="ffffff"/>
                </a:solidFill>
                <a:uFillTx/>
                <a:latin typeface="Times New Roman"/>
              </a:rPr>
              <a:t>C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}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{ACDE, ADE, ACE, AE, AD, AC, A}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{ABDE, BDE, ABE, ABD, AB, B}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{ABCE, BCE, ABC, BE, BC}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{ABCD, BCD, ACD, CD, BD, D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Zuordnung von Group-by C in den ersten Cubetree ist s.g. „</a:t>
            </a:r>
            <a:r>
              <a:rPr b="1" lang="de-DE" sz="1600" spc="-1" strike="noStrike">
                <a:solidFill>
                  <a:srgbClr val="ffffff"/>
                </a:solidFill>
                <a:latin typeface="Times New Roman"/>
              </a:rPr>
              <a:t>falsche Zuordnung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“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A336-446A-4D0B-8721-CDAE44DB37B4}" type="slidenum">
              <a:t>19</a:t>
            </a:fld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420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Gliederu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2680" y="1143000"/>
            <a:ext cx="842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1. Einführung in das Data Warehou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OLTP, OLAP und Data Warehou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Datenbankentwurf für das Data Warehouse: Das Stern-Sch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Beispiel für ein Data Warehou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2. Cube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Transformation von Relationen in Cubetre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Effiziente Speicherung durch gepackte R-Bäu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Cluster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Der Dataless Cubet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Der Reduced Cubet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Die Auswahl einer sinnvollen Sortierordn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Effizientes Update des Cubetre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3. Praktischer Einsatz der Cube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Effiziente Verwaltung von Sicht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Abschließender Vergleich mit konventionellen relationalen Datenbanksystem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4. Zusammenfass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6A92-8665-4E13-9637-0B91C50312F6}" type="slidenum">
              <a:t>2</a:t>
            </a:fld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Grad des Clusterings kann jetzt durch Anzahl der falschen Zuordnungen beschrieben werd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m Dataless Cubetree äquivalent zum „50% minus 1“-Geset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ergleich von Dataless Cubetree und Reduced Cubetre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N (Dimensionen)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Dataless Cubetree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Reduced Cubetree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    2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    6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  14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  30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  62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126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lso: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Reduced Cubetree ermöglicht deutlich besseres Clustering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2.4.2 Konsequenzen für das 50%-Gesetz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38400" y="4572000"/>
            <a:ext cx="412560" cy="595440"/>
          </a:xfrm>
          <a:prstGeom prst="downArrow">
            <a:avLst>
              <a:gd name="adj1" fmla="val 50000"/>
              <a:gd name="adj2" fmla="val 360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7EBF-2D83-47C6-B684-3D7A53F27B42}" type="slidenum">
              <a:t>20</a:t>
            </a:fld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420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Times New Roman"/>
              </a:rPr>
              <a:t>2.5 Auswahl einer sinnvollen Sortierordnung</a:t>
            </a:r>
            <a:endParaRPr b="0" lang="en-US" sz="3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innvolle Sortierordnung entscheidend für Effizienz der Anfragebearbeitung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Beispiel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Cubetree AxB mit Sortierordnung A-&gt;B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Clustering entlang B-Achse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Anfragen mit Group-by nach B schneller als bei Group-by nach A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lgorithmus notwendig, der für gegebene Group-by-Menge G Sortierordnung ermittelt au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Kardinalität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(Wichtigkeit) jedes Group-by‘s g</a:t>
            </a: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G: card(g)    (evtl. Approx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Wahrscheinlichkeit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, daß eine Anfrage g </a:t>
            </a: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G benutzt: prob(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42680" y="3733560"/>
            <a:ext cx="8420040" cy="2438280"/>
          </a:xfrm>
          <a:prstGeom prst="rect">
            <a:avLst/>
          </a:prstGeom>
          <a:noFill/>
          <a:ln w="12600">
            <a:solidFill>
              <a:srgbClr val="00002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// Der SelectSortOrder()-Algorithm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eset a counter for each attribute appearing in 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for every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group-by g </a:t>
            </a:r>
            <a:r>
              <a:rPr b="0" lang="de-DE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G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for every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grouping attribute in g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increase the corresponding counter by the value </a:t>
            </a:r>
            <a:r>
              <a:rPr b="0" lang="de-DE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* card(g) + </a:t>
            </a:r>
            <a:r>
              <a:rPr b="0" lang="de-DE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* prob(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ort counters from lower to higher valu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F37-7BE5-4470-B6D1-C3239BCFA777}" type="slidenum">
              <a:t>21</a:t>
            </a:fld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2.6 Effizientes Update des Cubetree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60240" y="990720"/>
            <a:ext cx="8420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Update zeitkritischste Aufgabe der Cubetree-Verwalt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Update einzelner Einträge und kompletter Neuaufbau unmöglich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Effiziente Lösung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Bulk Incremental Upd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Updates der Relation werden in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Update-Inkrement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dR gesammelt (z.B. Verkäufe der letzten Woch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Sortierphase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dR wird sortie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Merge-Pack-Phase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Vereinigen und Packen: Der alte Cubetree wird mit dem neuen Daten zusammengepac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cubetree(R</a:t>
            </a:r>
            <a:r>
              <a:rPr b="0" lang="de-DE" sz="1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dR) = Merge-Pack(cubetree(R), Sort-Pack(dR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981080" y="4038480"/>
          <a:ext cx="58485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038480"/>
                    <a:ext cx="5848560" cy="2438640"/>
                  </a:xfrm>
                  <a:prstGeom prst="rect">
                    <a:avLst/>
                  </a:prstGeom>
                  <a:ln w="12600">
                    <a:solidFill>
                      <a:srgbClr val="00002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7202-261C-43FD-96A3-7766E1B03EFB}" type="slidenum">
              <a:t>22</a:t>
            </a:fld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2.6 Bulk Incremental Update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8420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urchführung des Bulk Incremental Updat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Für jeden Cubetree Puffer im Hauptspeicher für die Projektion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Für Eingabe dR Generierung aller möglichen Projektionen und Schreiben in die entsprechenden Puf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Puffer können durch Hashing vorsortiert werden =&gt; Sortierung schnel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Wenn Puffer voll, Sortierung mit z.B. QuickSort() und Sicherung in Hintergrundspeicher (für späteres Vereinige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Wenn alle Updates aus dR durchgeführt wurden, Merge-Pack mit altem Cubetre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emerkung: Update-Inkrement dR enthält neben Einfügungen auch Löschungen und Updates von Tupel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ominanter Kostenfaktor des Bulk Incremental Update: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Kosten für die Sortierphas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D732-B253-4CF0-94F2-3C27E1DAF2FA}" type="slidenum">
              <a:t>23</a:t>
            </a:fld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Times New Roman"/>
              </a:rPr>
              <a:t>2.6 Optimierung des Bulk Incremental Updates (I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erücksichtigung von Sättigu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Cubetree heißt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gesättigt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, wenn er durch Updates nicht mehr wächst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(Alle neuen Projektionen fallen nur noch auf alte Datenpunk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bhängig von Daten: Ob bzw. wie schnell Cubetree gesättigt i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Beispiel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Cubetree für Verkäufe mit Produkt, Filiale und Tag. Maximal 500 Tage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Überschreiben des ältesten Eintrages mit dem aktuellen.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Sättigung nach 500 Tage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Im gesättigten Cubetree: Merge-Pack-Kosten konstant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Einzelne Bereiche können schon vorher gesättigt sei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Weitere Optimierungsmöglichkei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chnelles Sortieren durch Aufteilung und Parallelisierung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Sortierdauer = Sortierzeit für größte Part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chreiben des neuen Cubetrees in einen neuen Speicherbereich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OLAP während des Updates möglich. Aber: doppelter Speicherplatzbedarf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4290-2A58-4C84-AC1F-1870F0A32A37}" type="slidenum">
              <a:t>24</a:t>
            </a:fld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Times New Roman"/>
              </a:rPr>
              <a:t>2.6 Optimierung des Bulk Incremental Updates (II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42680" y="152388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ufgabe des Administrators: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Kontrolle der Größe von dR durch geeignete Update-Intervalle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Problem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ehr großer Cubetree und kleines dR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Update erforderlich für OLAP </a:t>
            </a:r>
            <a:br>
              <a:rPr sz="1800"/>
            </a:b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Beispiel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Update mit Verkäufen der letzten Woche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Daten werden für OLAP-Anwendungen benötigt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Update muß durchgeführt werde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Updates über Batch-Transaktionen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Update erforderlich, um Transaktion zu bestätigen</a:t>
            </a:r>
            <a:br>
              <a:rPr sz="1800"/>
            </a:b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Beispiel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Eingang der Verkaufsdaten einzelner  Filialen über Internet-Transaktionen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Erfolg der Transaktion muß bestätigt werden können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Update muß durchgeführt werde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7DF2-E04B-4CB0-9F81-F0E4BB2F4447}" type="slidenum">
              <a:t>25</a:t>
            </a:fld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2680" y="5335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3.1 Materialisierung verschiedener Sichten (I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42680" y="1371240"/>
            <a:ext cx="8420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In der Praxis sinnvoll: Materialisierung verschiedener Sichten (engl. views) </a:t>
            </a:r>
            <a:r>
              <a:rPr b="0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r gleichen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Relation zur effizienteren Anfragebearbeit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Wünschenswert: Speicherung unterschiedlicher Sichten im </a:t>
            </a:r>
            <a:r>
              <a:rPr b="0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gleichen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Cubetr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59880" y="2437920"/>
            <a:ext cx="8502840" cy="3581640"/>
          </a:xfrm>
          <a:prstGeom prst="rect">
            <a:avLst/>
          </a:prstGeom>
          <a:noFill/>
          <a:ln w="12600">
            <a:solidFill>
              <a:srgbClr val="000022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Beispiel: 3 verschiedene Sichten für das Data Warehouse aus Kapitel 1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elect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ProduktSchlüssel, KundenSchlüssel,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um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Anzah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Verkäu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group by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ProduktSchlüsssel, KundenSchlüssel;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elect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Produkt.Typ,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um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Anzah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Verkäufe, Produk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where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Verkäufe.ProduktSchlüssel = Produkt.ProduktSchlüss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group by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Produkt.Typ;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elect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ProduktSchlüssel, KundenSchlüssel, ZeitSchlüssel, 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um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Anzah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Verkäu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group by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ProduktSchlüsssel, KundenSchlüssel, ZeitSchlüsse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C8FD-AC17-4BD6-81D4-16CDAD78F0A0}" type="slidenum">
              <a:t>26</a:t>
            </a:fld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cc00"/>
                </a:solidFill>
                <a:latin typeface="Times New Roman"/>
              </a:rPr>
              <a:t>3.1 Materialisierung verschiedener Sichten (II)</a:t>
            </a:r>
            <a:endParaRPr b="0" lang="en-US" sz="31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2680" y="13712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m Beispiel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: Abbildung der 3 Sichten auf </a:t>
            </a:r>
            <a:r>
              <a:rPr b="0" lang="de-DE" sz="2000" spc="-1" strike="noStrike" u="sng">
                <a:solidFill>
                  <a:srgbClr val="ffffff"/>
                </a:solidFill>
                <a:uFillTx/>
                <a:latin typeface="Times New Roman"/>
              </a:rPr>
              <a:t>einen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3-dim. R-Baum R</a:t>
            </a:r>
            <a:r>
              <a:rPr b="0" lang="de-DE" sz="2000" spc="-1" strike="noStrike" baseline="-25000">
                <a:solidFill>
                  <a:srgbClr val="ffffff"/>
                </a:solidFill>
                <a:latin typeface="Times New Roman"/>
              </a:rPr>
              <a:t>{x,y,z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Tupel t aus V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-&gt;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x-Koordinate = ProduktSchlüssel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y-Koordinate = KundenSchlüssel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z-Koordinate = ZeitSchlüss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Tupel t aus V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-&gt;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x-Koordinate = ProduktSchlüssel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y-Koordinate = KundenSchlüssel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z-Koordinate = </a:t>
            </a:r>
            <a:r>
              <a:rPr b="0" lang="de-DE" sz="1600" spc="-1" strike="noStrike" u="sng">
                <a:solidFill>
                  <a:srgbClr val="ffffff"/>
                </a:solidFill>
                <a:uFillTx/>
                <a:latin typeface="Times New Roman"/>
              </a:rPr>
              <a:t>Nu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Tupel t aus V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-&gt;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x-Koordinate = Produkt.Typ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y-Koordinate = </a:t>
            </a:r>
            <a:r>
              <a:rPr b="0" lang="de-DE" sz="1600" spc="-1" strike="noStrike" u="sng">
                <a:solidFill>
                  <a:srgbClr val="ffffff"/>
                </a:solidFill>
                <a:uFillTx/>
                <a:latin typeface="Times New Roman"/>
              </a:rPr>
              <a:t>Null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z-Koordinate = </a:t>
            </a:r>
            <a:r>
              <a:rPr b="0" lang="de-DE" sz="1600" spc="-1" strike="noStrike" u="sng">
                <a:solidFill>
                  <a:srgbClr val="ffffff"/>
                </a:solidFill>
                <a:uFillTx/>
                <a:latin typeface="Times New Roman"/>
              </a:rPr>
              <a:t>Nu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Jede Sicht belegt eigenen Raum im Cubetr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er gleiche Cubetree speichert Aggregatdaten unterschiedlicher Attribute: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x-Achse enthält in V</a:t>
            </a:r>
            <a:r>
              <a:rPr b="0" lang="de-DE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de-DE" sz="2000" spc="-1" strike="noStrike">
                <a:solidFill>
                  <a:srgbClr val="ffffff"/>
                </a:solidFill>
                <a:latin typeface="Times New Roman"/>
              </a:rPr>
              <a:t>Produkt.Typ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, in V</a:t>
            </a:r>
            <a:r>
              <a:rPr b="0" lang="de-DE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und V</a:t>
            </a:r>
            <a:r>
              <a:rPr b="0" lang="de-DE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de-DE" sz="2000" spc="-1" strike="noStrike">
                <a:solidFill>
                  <a:srgbClr val="ffffff"/>
                </a:solidFill>
                <a:latin typeface="Times New Roman"/>
              </a:rPr>
              <a:t>ProduktSchlüssel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ortei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geringerer Speicherplatzbedar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bessere Ausnutzung des Ca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9FA2-97BD-45AF-B8ED-D1697003F01F}" type="slidenum">
              <a:t>27</a:t>
            </a:fld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cc00"/>
                </a:solidFill>
                <a:latin typeface="Times New Roman"/>
              </a:rPr>
              <a:t>3.1 Materialisierung verschiedener Sichten (III)</a:t>
            </a:r>
            <a:endParaRPr b="0" lang="en-US" sz="31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2680" y="1447560"/>
            <a:ext cx="842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llgemeiner Fall:</a:t>
            </a:r>
            <a:br>
              <a:rPr sz="20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Zuordnung einer Menge von Sichten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{V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,...,V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} zu einer Menge von Cubetrees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{R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,...,R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}; R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{x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,...,x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Times New Roman"/>
              </a:rPr>
              <a:t>max[i]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}, Sortierordnung: x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Times New Roman"/>
              </a:rPr>
              <a:t>max[i]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-&gt;...-&gt; x</a:t>
            </a:r>
            <a:r>
              <a:rPr b="0" lang="de-DE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efinitione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Times New Roman"/>
              </a:rPr>
              <a:t>Projektionsliste</a:t>
            </a:r>
            <a:r>
              <a:rPr b="0" i="1" lang="de-DE" sz="1800" spc="-1" strike="noStrike">
                <a:solidFill>
                  <a:srgbClr val="ffffff"/>
                </a:solidFill>
                <a:latin typeface="Times New Roman"/>
              </a:rPr>
              <a:t> einer Sicht V: Liste aller Attribute der Fakten- und Dimensionstabellen, die durch die Sicht projiziert werden</a:t>
            </a:r>
            <a:br>
              <a:rPr sz="1800"/>
            </a:br>
            <a:r>
              <a:rPr b="0" i="1" lang="de-DE" sz="1800" spc="-1" strike="noStrike">
                <a:solidFill>
                  <a:srgbClr val="ffffff"/>
                </a:solidFill>
                <a:latin typeface="Times New Roman"/>
              </a:rPr>
              <a:t>Notation: V</a:t>
            </a:r>
            <a:r>
              <a:rPr b="0" i="1" lang="de-DE" sz="1800" spc="-1" strike="noStrike" baseline="-25000">
                <a:solidFill>
                  <a:srgbClr val="ffffff"/>
                </a:solidFill>
                <a:latin typeface="Times New Roman"/>
              </a:rPr>
              <a:t>{Projektionsliste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Times New Roman"/>
              </a:rPr>
              <a:t>Arität</a:t>
            </a:r>
            <a:r>
              <a:rPr b="0" i="1" lang="de-DE" sz="1800" spc="-1" strike="noStrike">
                <a:solidFill>
                  <a:srgbClr val="ffffff"/>
                </a:solidFill>
                <a:latin typeface="Times New Roman"/>
              </a:rPr>
              <a:t> einer Sicht V: Anzahl der Elemente der Projektionsliste von V</a:t>
            </a:r>
            <a:br>
              <a:rPr sz="1800"/>
            </a:br>
            <a:r>
              <a:rPr b="0" i="1" lang="de-DE" sz="1800" spc="-1" strike="noStrike">
                <a:solidFill>
                  <a:srgbClr val="ffffff"/>
                </a:solidFill>
                <a:latin typeface="Times New Roman"/>
              </a:rPr>
              <a:t>Notation: |V|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Times New Roman"/>
              </a:rPr>
              <a:t>Gültige Zuordnung</a:t>
            </a:r>
            <a:r>
              <a:rPr b="0" i="1" lang="de-DE" sz="1800" spc="-1" strike="noStrike">
                <a:solidFill>
                  <a:srgbClr val="ffffff"/>
                </a:solidFill>
                <a:latin typeface="Times New Roman"/>
              </a:rPr>
              <a:t> einer Sicht V</a:t>
            </a:r>
            <a:r>
              <a:rPr b="0" i="1" lang="de-DE" sz="1800" spc="-1" strike="noStrike" baseline="-25000">
                <a:solidFill>
                  <a:srgbClr val="ffffff"/>
                </a:solidFill>
                <a:latin typeface="Times New Roman"/>
              </a:rPr>
              <a:t>{a1,...,am}</a:t>
            </a:r>
            <a:r>
              <a:rPr b="0" i="1" lang="de-DE" sz="1800" spc="-1" strike="noStrike">
                <a:solidFill>
                  <a:srgbClr val="ffffff"/>
                </a:solidFill>
                <a:latin typeface="Times New Roman"/>
              </a:rPr>
              <a:t> nach R</a:t>
            </a:r>
            <a:r>
              <a:rPr b="0" i="1" lang="de-DE" sz="1800" spc="-1" strike="noStrike" baseline="-25000">
                <a:solidFill>
                  <a:srgbClr val="ffffff"/>
                </a:solidFill>
                <a:latin typeface="Times New Roman"/>
              </a:rPr>
              <a:t>{x,y,z,...}</a:t>
            </a:r>
            <a:r>
              <a:rPr b="0" i="1" lang="de-DE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1800"/>
            </a:br>
            <a:r>
              <a:rPr b="0" i="1" lang="de-DE" sz="1800" spc="-1" strike="noStrike">
                <a:solidFill>
                  <a:srgbClr val="ffffff"/>
                </a:solidFill>
                <a:latin typeface="Times New Roman"/>
              </a:rPr>
              <a:t>Transformation jedes Tupels t aus V zu Datenpunkt in R mit a</a:t>
            </a:r>
            <a:r>
              <a:rPr b="0" i="1" lang="de-DE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de-DE" sz="1800" spc="-1" strike="noStrike">
                <a:solidFill>
                  <a:srgbClr val="ffffff"/>
                </a:solidFill>
                <a:latin typeface="Times New Roman"/>
              </a:rPr>
              <a:t> als x-Koordinate, a</a:t>
            </a:r>
            <a:r>
              <a:rPr b="0" i="1" lang="de-DE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de-DE" sz="1800" spc="-1" strike="noStrike">
                <a:solidFill>
                  <a:srgbClr val="ffffff"/>
                </a:solidFill>
                <a:latin typeface="Times New Roman"/>
              </a:rPr>
              <a:t> als y-Koordinate usw. und </a:t>
            </a:r>
            <a:r>
              <a:rPr b="0" i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Null</a:t>
            </a:r>
            <a:r>
              <a:rPr b="0" i="1" lang="de-DE" sz="1800" spc="-1" strike="noStrike">
                <a:solidFill>
                  <a:srgbClr val="ffffff"/>
                </a:solidFill>
                <a:latin typeface="Times New Roman"/>
              </a:rPr>
              <a:t> für unbenutzte Koordinate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SelectMapping()-Algorithmus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ordnet Sichten den Cubetrees so zu, daß keine zwei Sichten gleicher Arität den gleichen Cubetree benutz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FA7A-EC44-45EE-92A7-F9A5C4ECAA8C}" type="slidenum">
              <a:t>28</a:t>
            </a:fld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Times New Roman"/>
              </a:rPr>
              <a:t>3.1 Der SelectMapping()-Algorithmus (I)</a:t>
            </a:r>
            <a:endParaRPr b="0" lang="en-US" sz="3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3040" y="1447920"/>
            <a:ext cx="8502480" cy="4876560"/>
          </a:xfrm>
          <a:prstGeom prst="rect">
            <a:avLst/>
          </a:prstGeom>
          <a:noFill/>
          <a:ln w="12600">
            <a:solidFill>
              <a:srgbClr val="000022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// Der SelectMapping(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={V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,...,V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})-Algorithm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maxArity = max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Vi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(|V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|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Initialize sets S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, i=1,...,maxA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// Gruppierung der Sichten nach ihrer Arität, d.h. alle Sichten mit Arität 1 in S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us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each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V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|Vi|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|Vi|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{V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hile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de-DE" sz="1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de-DE" sz="1400" spc="-1" strike="noStrike" baseline="-10000">
                <a:solidFill>
                  <a:srgbClr val="ffffff"/>
                </a:solidFill>
                <a:latin typeface="Arial"/>
              </a:rPr>
              <a:t>i=1,...,maxArity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// Berechnung der maximalen Arität der noch nicht zugeordneten Sich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arity = max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Si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(i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Create new R-tree R</a:t>
            </a:r>
            <a:r>
              <a:rPr b="0" lang="de-DE" sz="1400" spc="-1" strike="noStrike" baseline="-10000">
                <a:solidFill>
                  <a:srgbClr val="ffffff"/>
                </a:solidFill>
                <a:latin typeface="Arial"/>
              </a:rPr>
              <a:t>{x1,x2,...,x[arity]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// Eine Sicht aus jeder Menge S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wählen und R zuordn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j=1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arity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de-DE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tract a view V</a:t>
            </a:r>
            <a:r>
              <a:rPr b="0" lang="de-DE" sz="1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from S</a:t>
            </a: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baseline="-25000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Map V to 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41C-E301-4C7A-9558-64C09674DE6B}" type="slidenum">
              <a:t>29</a:t>
            </a:fld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42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1.1 Einführung in das Data Warehous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OLTP (On-Line Transaction Process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realisiert „operationales Tagesgeschäft“ eines Unternehm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Beispiel: Buchung eines Fluges oder Bearbeitung einer Bestell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Zugriff auf begrenzten, relativ kleinen Teil der Datenbank; dieser muß jedoch immer aktuell se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OLAP (On-Line Analytical Process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trategischen Unternehmensplanung =&gt; Auswertung großer Datenbestä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Beispiel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Welches Produkt hat sich in welcher Filiale wann besonders gut verkauft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Wie hat sich die Auslastung eines Fluges über einen bestimmten Zeitraum entwickelt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Unterschiedliche Datenbestände für OLAP und OLTP. Gründ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OLTP für Änderungstransaktionen optimiert, verteilt über mehrere Datenbank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OLAP erfordert Daten in konsolidierter, integrierter 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Sehr komplexe Anfragen =&gt; würden OLTP-Transaktionen stark beeinträcht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Deshalb: Aufbau eines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Data Warehouse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, in dem alle Daten gesammelt werd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6EFA-B312-4BCA-9DE8-B13B7C7D1699}" type="slidenum">
              <a:t>3</a:t>
            </a:fld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Times New Roman"/>
              </a:rPr>
              <a:t>3.1 Der SelectMapping()-Algorithmus (II)</a:t>
            </a:r>
            <a:endParaRPr b="0" lang="en-US" sz="3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42680" y="1219320"/>
            <a:ext cx="842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Folgende Zuordnungen wären </a:t>
            </a:r>
            <a:r>
              <a:rPr b="0" lang="de-DE" sz="2000" spc="-1" strike="noStrike" u="sng">
                <a:solidFill>
                  <a:srgbClr val="ffffff"/>
                </a:solidFill>
                <a:uFillTx/>
                <a:latin typeface="Times New Roman"/>
              </a:rPr>
              <a:t>theoretisch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denkba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Für jede Sicht ein eigener Cubetree =&gt; sehr schnelle Anfragebearbeit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Ein Cubetree für alle Sichten =&gt; sehr geringer Speicherplatzbedar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n der </a:t>
            </a:r>
            <a:r>
              <a:rPr b="0" lang="de-DE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axis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jedoch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electMapping()-Algorithmus liefert guten Kompromiß zwisc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Grad des Clusterings innerhalb jedes Cubetre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peicherbedarf für die Cubetre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Effizientes Sort-P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chnelle Anfragebearbeit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Weitere Vorteile des SelectMapping()-Algorithmu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nzahl der R-Bäume minimal unter Bedingung, jede einzelne Sicht in einem eigenen, fortlaufenden Teil des Baumes zu Speichern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gutes Clustering bei geringem Speicherplatzbedar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Weitere Optimierungsmöglichkeit: Kompression der Null-Koordinat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Genaue Analyse in der Praxis: siehe Pap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3552-8258-48B6-9C27-3BADE89DA1D6}" type="slidenum">
              <a:t>30</a:t>
            </a:fld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42680" y="533160"/>
            <a:ext cx="8420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Times New Roman"/>
              </a:rPr>
              <a:t>3.2 Vergleich mit konventionellen relationalen Datenbanksystemen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4268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Verbesserung der Effizienz gegenüber konventionellen relationalen Datenbanksystemen  im Praxiseinsatz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peicherplatz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   2 :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nfragen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 10 :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Updates: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100 : 1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Genauere Analyse: siehe Pap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FFF9-3C7F-443E-8A6B-77A4B4FEEE78}" type="slidenum">
              <a:t>31</a:t>
            </a:fld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4. Zusammenfassu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42680" y="129492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OLAP =&gt; Data Warehouses =&gt; Datacub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ffiziente Speicherung in Cubetrees durch gepackte R-Bä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Clustering der Group-by‘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ataless Cubetree: Weglassen der Datenpunkte der Re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Reduced Cubetree: Unabhängiges Sort-Pack der N (N-1)-dimensionalen Hyperebenen in N verschiedenen R-Bäu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llocateLattice(): Zuordnung jedes Group-by‘s zu einem der N R-Bä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electSortOrder(): Finden einer sinnvollen Sortierordn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ulk Incremental Updates einzige Möglichkeit zum effizienten Update, Optimierungen durch Größe von dR und Berücksichtigung von Sättig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ffiziente Verwaltung mehrerer Sichten durch Verwendung des SelectMapping()-Algorithm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rreichte Verbesserungen: Speicher 2 : 1, Anfragen: 10 : 1, Updates: 100 :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86B9-EFB9-45B3-849C-874709A5E420}" type="slidenum">
              <a:t>32</a:t>
            </a:fld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1.2 Architekturen für Data Warehouse-System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Zwei konkurrierende Architekturen für Data Warehous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MOLAP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peicherung in speziellen, mehrdimensionalen Datenstruktur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Einfachster Fall: Mehrdimensionales Arr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Problem: Dünn besetzte Dimensionen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ROLAP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Data Warehouse-System auf Basis einer relationalen Datenba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Untertyp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System ist Front-End auf relationaler Datenba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-2214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Data Warehouse-System mit relationaler Benutzerschnittstelle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Welche der beiden Architekturen sich durchsetzen wird, ist derzeit noch nicht absehb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5CF4-30B4-477A-975F-F0FC85C336D9}" type="slidenum">
              <a:t>4</a:t>
            </a:fld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1.3 Datenbankentwurf für das Data Warehous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2680" y="1219320"/>
            <a:ext cx="4133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Stern-Schem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eine </a:t>
            </a:r>
            <a:r>
              <a:rPr b="1" lang="de-DE" sz="1700" spc="-1" strike="noStrike">
                <a:solidFill>
                  <a:srgbClr val="ffffff"/>
                </a:solidFill>
                <a:latin typeface="Times New Roman"/>
              </a:rPr>
              <a:t>Faktentabelle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 (z.B. Verkäufe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mehrere </a:t>
            </a:r>
            <a:r>
              <a:rPr b="1" lang="de-DE" sz="1700" spc="-1" strike="noStrike">
                <a:solidFill>
                  <a:srgbClr val="ffffff"/>
                </a:solidFill>
                <a:latin typeface="Times New Roman"/>
              </a:rPr>
              <a:t>Dimensionstabellen</a:t>
            </a: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 (z.B. Produkte, Filialen und Zeit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Dimensionstabellen über Fremdschlüsselbeziehungen mit der Faktentabelle verbunde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In der Prax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Faktentabelle enthält oft viele Millionen Tup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Dimensionstabellen wesentlich kleiner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Times New Roman"/>
              </a:rPr>
              <a:t>Größenordnungen für Data Warehouses: Viele Gigabytes bis einige Terabytes!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Beispiel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Data Warehouse für Verkäuf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28840" y="1219320"/>
            <a:ext cx="4133880" cy="4952880"/>
          </a:xfrm>
          <a:prstGeom prst="rect">
            <a:avLst/>
          </a:prstGeom>
          <a:noFill/>
          <a:ln w="12600">
            <a:solidFill>
              <a:srgbClr val="00002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imensionstabelle: Produk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300" spc="-1" strike="noStrike">
                <a:solidFill>
                  <a:srgbClr val="ffffff"/>
                </a:solidFill>
                <a:latin typeface="Arial"/>
              </a:rPr>
              <a:t>ProduktSchlüss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Ty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Herstelle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imensionstabelle: Kund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300" spc="-1" strike="noStrike">
                <a:solidFill>
                  <a:srgbClr val="ffffff"/>
                </a:solidFill>
                <a:latin typeface="Arial"/>
              </a:rPr>
              <a:t>KundenSchlüss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Adress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imensionstabelle: Ze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300" spc="-1" strike="noStrike">
                <a:solidFill>
                  <a:srgbClr val="ffffff"/>
                </a:solidFill>
                <a:latin typeface="Arial"/>
              </a:rPr>
              <a:t>ZeitSchlüss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Uhrzei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Datum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Sais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Faktentabelle: Verkäuf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300" spc="-1" strike="noStrike">
                <a:solidFill>
                  <a:srgbClr val="ffffff"/>
                </a:solidFill>
                <a:latin typeface="Arial"/>
              </a:rPr>
              <a:t>ProduktSchlüss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300" spc="-1" strike="noStrike">
                <a:solidFill>
                  <a:srgbClr val="ffffff"/>
                </a:solidFill>
                <a:latin typeface="Arial"/>
              </a:rPr>
              <a:t>KundenSchlüss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300" spc="-1" strike="noStrike">
                <a:solidFill>
                  <a:srgbClr val="ffffff"/>
                </a:solidFill>
                <a:latin typeface="Arial"/>
              </a:rPr>
              <a:t>ZeitSchlüss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Anzah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579132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E2C9-D6B9-4179-AFA0-72E131E91CF3}" type="slidenum">
              <a:t>5</a:t>
            </a:fld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Times New Roman"/>
              </a:rPr>
              <a:t>1.3 Drill-Down und Roll-Up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381880" cy="1981440"/>
          </a:xfrm>
          <a:prstGeom prst="rect">
            <a:avLst/>
          </a:prstGeom>
          <a:noFill/>
          <a:ln w="12600">
            <a:solidFill>
              <a:srgbClr val="00002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// Wieviel Drucker wurden pro Jahr und Hersteller verkauft?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ffffff"/>
                </a:solidFill>
                <a:latin typeface="Arial"/>
              </a:rPr>
              <a:t>select</a:t>
            </a: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 Jahr, Hersteller, </a:t>
            </a:r>
            <a:r>
              <a:rPr b="1" lang="de-DE" sz="1700" spc="-1" strike="noStrike">
                <a:solidFill>
                  <a:srgbClr val="ffffff"/>
                </a:solidFill>
                <a:latin typeface="Arial"/>
              </a:rPr>
              <a:t>sum</a:t>
            </a: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(Anzahl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 Verkäufe v, Produkte p, Zeit z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ffffff"/>
                </a:solidFill>
                <a:latin typeface="Arial"/>
              </a:rPr>
              <a:t>where</a:t>
            </a: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  v.ProduktSchlüssel = p.ProduktSchlüssel </a:t>
            </a:r>
            <a:r>
              <a:rPr b="1" lang="de-DE" sz="17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v.ZeitSchlüssel = z.ZeitSchlüssel </a:t>
            </a:r>
            <a:r>
              <a:rPr b="1" lang="de-DE" sz="17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 p.Typ = ‚Drucker‘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ffffff"/>
                </a:solidFill>
                <a:latin typeface="Arial"/>
              </a:rPr>
              <a:t>group by</a:t>
            </a: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 p.Hersteller, z.Jahr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580920"/>
            <a:ext cx="8477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nterpretation der Daten erst durch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Verdichtung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sinnvo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eispiel: Wieviel Drucker wurden </a:t>
            </a:r>
            <a:r>
              <a:rPr b="0" lang="de-DE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 Jahr und Hersteller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verkauf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n SQL: Auswahl des Verdichtungsgrades durch </a:t>
            </a:r>
            <a:r>
              <a:rPr b="0" i="1" lang="de-DE" sz="2000" spc="-1" strike="noStrike">
                <a:solidFill>
                  <a:srgbClr val="ffffff"/>
                </a:solidFill>
                <a:latin typeface="Times New Roman"/>
              </a:rPr>
              <a:t>group by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-Klaus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Drill-Down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Mehr Attribute in </a:t>
            </a:r>
            <a:r>
              <a:rPr b="0" i="1" lang="de-DE" sz="1800" spc="-1" strike="noStrike">
                <a:solidFill>
                  <a:srgbClr val="ffffff"/>
                </a:solidFill>
                <a:latin typeface="Times New Roman"/>
              </a:rPr>
              <a:t>group by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-Klausel: Weniger starke Verdichtung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mehr Tupel als Ergebn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Roll-Up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Weniger Attribute in </a:t>
            </a:r>
            <a:r>
              <a:rPr b="0" i="1" lang="de-DE" sz="1800" spc="-1" strike="noStrike">
                <a:solidFill>
                  <a:srgbClr val="ffffff"/>
                </a:solidFill>
                <a:latin typeface="Times New Roman"/>
              </a:rPr>
              <a:t>group by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-Klausel: Stärkere Verdichtung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=&gt; weniger Tupel als Ergebn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F118-7F5F-4238-BF0B-E36A5BE3114A}" type="slidenum">
              <a:t>6</a:t>
            </a:fld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8420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Times New Roman"/>
              </a:rPr>
              <a:t>2.1 Transformation von Relationen in Cubetrees (I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2680" y="1143000"/>
            <a:ext cx="842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peicherung des Data Warehouse in relationaler DB sehr ineffizient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=&gt; Verwendung von Datacub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ffffff"/>
                </a:solidFill>
                <a:latin typeface="Times New Roman"/>
              </a:rPr>
              <a:t>Formale Definition eines Datacube</a:t>
            </a:r>
            <a:r>
              <a:rPr b="0" i="1" lang="de-DE" sz="2000" spc="-1" strike="noStrike">
                <a:solidFill>
                  <a:srgbClr val="ffffff"/>
                </a:solidFill>
                <a:latin typeface="Times New Roman"/>
              </a:rPr>
              <a:t>: Redundante, mehrdimensionale Projektion von Relationen, bei der alle möglichen Operatoren und Aggregate in einen N-dimensionalen Raum abgebildet werden</a:t>
            </a:r>
            <a:br>
              <a:rPr sz="2000"/>
            </a:br>
            <a:r>
              <a:rPr b="0" i="1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Beispiel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R(A,B,C,Q) (A-C: gruppierende Attribute, Q Maßattribu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, B, C bilden Achsen des Würfels AxBx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Tupel T(a,b,c,q) -&gt; Datenpunkt O(a,b,c) mit Inhalt 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Aggregierung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aller Unterräume durch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Aggregatfunktion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Unterraum S</a:t>
            </a:r>
            <a:r>
              <a:rPr b="1" lang="de-DE" sz="1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Group-by nach allen S</a:t>
            </a:r>
            <a:r>
              <a:rPr b="0" lang="de-DE" sz="1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entsprechenden Attribut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Aggregatwerte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Im Schnittpunkt von S</a:t>
            </a:r>
            <a:r>
              <a:rPr b="0" lang="de-DE" sz="1800" spc="-1" strike="noStrike" baseline="30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mit orthogonalen restlichen Dimension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Punkt O(0,...,0)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Aggregatwert von Group-by nach </a:t>
            </a:r>
            <a:r>
              <a:rPr b="0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keinem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Attribut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ieses Modell bezeichnen wir als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xtended Datacube Model (ED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1889-2CB5-4046-940B-11B6D64053CA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Times New Roman"/>
              </a:rPr>
              <a:t>2.1 Transformation von Relationen in Cubetrees (II)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62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ffff"/>
                </a:solidFill>
                <a:uFillTx/>
                <a:latin typeface="Times New Roman"/>
              </a:rPr>
              <a:t>Beispiel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3D-Datacube über Verkäufe mit Dimensionen A: Kunden, B: Produkte, C: Ze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Group-by nach Kunden und Produkten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Geraden senkrecht zur Kunden/Produkte-Ebene; jeder Punkt der Geraden steht für einen Verkauf des Produktes an den Kunden (oberes Bil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Ein fester Punkt auf der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-Achse ist Summe über alle Produkte b und Zeitpunkte c der Inhalte O(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,b,c) (senkrecht zu A durch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verlaufende Ebene, unteres Bild)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Nullpunkt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Gesamtzahl aller Verkäuf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638680" y="4191120"/>
          <a:ext cx="3467160" cy="19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5638680" y="4191120"/>
                    <a:ext cx="3467160" cy="1928520"/>
                  </a:xfrm>
                  <a:prstGeom prst="rect">
                    <a:avLst/>
                  </a:prstGeom>
                  <a:ln w="12600">
                    <a:solidFill>
                      <a:srgbClr val="000022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638680" y="1981080"/>
          <a:ext cx="346716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1981080"/>
                    <a:ext cx="3467160" cy="2057400"/>
                  </a:xfrm>
                  <a:prstGeom prst="rect">
                    <a:avLst/>
                  </a:prstGeom>
                  <a:ln w="12600">
                    <a:solidFill>
                      <a:srgbClr val="00002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5669-EDB3-4C03-9CFD-6231E9602D74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Times New Roman"/>
              </a:rPr>
              <a:t>2.2 Effiziente Speicherung durch gepackte R-Bäume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2680" y="1676520"/>
            <a:ext cx="4127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R-Baum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 mehrdimensionaler Baum mit folgenden Eigenschaft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Bleibt bei Einfügungen und Löschungen balancie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Jeder Schlüssel in einem Blatt ist Sammlung von Intervallen (ein Intervall pro Dimens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Nicht-Blatt-Knoten decken alle Intervalle der Söhne 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lle Blätter haben gleichen Abstand zur Wurz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lle Knoten können (mit Ausnahme der Wurzel) zu 50% gefüllt gehalten werd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35320" y="1676520"/>
            <a:ext cx="4127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Einfügen einzelner Einträge sehr langsam und zerstört Clustering (dt. Ballung) der Daten =&gt; Verwendung von s.g. gepackten R-Bäum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gepackter R-Baum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Objekte werden zuerst in einer sinnvollen Ordnung sortie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Danach wird R-Baum mit Sortierergebnis neu aufgeba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Dieses Verfahren heißt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Sort-Pack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weitere Informationen zu R-Bäumen: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“Multidimensional Indexing – The R-Tree” http://www.cs.wisc.edu/~dbbook/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slides/psslides/mod711.p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586728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3509-01C5-4239-9241-92B4D6D60A5D}" type="slidenum">
              <a:t>9</a:t>
            </a:fld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7T15:27:46Z</dcterms:created>
  <dc:creator>Thomas Dreibholz</dc:creator>
  <dc:description>Seminar "Fortgeschrittene Techniken der Datenbanken", WS 1998/99
</dc:description>
  <cp:keywords>OLAP Cubetree Folien</cp:keywords>
  <dc:language>en-US</dc:language>
  <cp:lastModifiedBy>Thomas Dreibholz</cp:lastModifiedBy>
  <cp:lastPrinted>1999-01-25T18:49:00Z</cp:lastPrinted>
  <dcterms:modified xsi:type="dcterms:W3CDTF">1999-02-14T10:12:30Z</dcterms:modified>
  <cp:revision>123</cp:revision>
  <dc:subject>Informationssysteme</dc:subject>
  <dc:title>Data Warehousing und OLAP: Cubetree</dc:title>
</cp:coreProperties>
</file>