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877-F84C-4413-8805-D8254252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DBB-0A5C-4181-8CA0-3342132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285-1B2D-4E8B-B3E2-8055865E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602-563C-455D-AD5E-AE49357B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F1C3-3CD4-4B99-BB76-0AA0547F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031B-2AE5-43CD-8800-1B3317E3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30DC-F474-414B-8EB7-630BE24F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6AB9-68B3-48CF-93AD-78E37D74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825B-7E88-4FF1-833D-8C5E74CC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183A-B9D4-4660-A352-80FD940F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367A-8619-4DF0-BAF3-2CAFF7C8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705-678F-4711-8D4D-A94F3E77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57AA-3933-4C5F-8C18-698A61BE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E04C-6496-477B-BE81-2855550F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DF9C-9782-4781-B826-D60FD1DC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8F3E-4D11-48EE-B836-0C5EB504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2A9E-0A2E-4B1E-BFA0-9FC2D25C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928-47A9-42EB-9207-6B32A6F2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E1F-25C6-491A-A384-4A4842EB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EC7-8AFB-459A-8ECC-6E620D1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921-114B-4362-9D63-B1D1A3FC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689-08C7-49B8-AD5F-121BA9B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CD3-EB93-4F21-A3C9-37F20A3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BCD-E421-40A1-8F3F-34F66301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AB7D-A65A-446F-9AD7-9F2AB6751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DB96-998D-4C3A-89C9-27EA85E1B4E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leitungsvortrag zur Diplomarbeit</a:t>
            </a:r>
            <a:br>
              <a:rPr sz="1600"/>
            </a:br>
            <a:br>
              <a:rPr sz="16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„Management of Layered Variable Bitrate Multimedia Streams over DiffServ with Apriori Knowledge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5905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omas Dreibholz, Dreibholz@bigfoo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3. August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itere Informationen auf der Homep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-student.informatik.uni-bonn.de/~dreibhol/diplom/index.htm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E021-88CF-48F1-8C5C-6903483CF2BC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e Neuverteil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Ergebn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ynamische QoS-Beschreibung für die einzelnen Strö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der Strom: Eigene optimale Neuverteilungsinterva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Dauernde komplette Neuverteilung zu ineffiz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ptimierung von Kosten für Provider und Nutzen für Anw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fga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ffiziente Neuverteilung.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Idee: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rtielle Neuvertei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reiwerdende Bandbreite sammel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i Anforderung zuteilen; ggf. skal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ostenfunktionen für Provider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.B. Effektive Bandbreite ([CKS9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tzen für Anwender: aus Utility Functions ([CZ99], [LLR+99], [Rog98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AD8E-1EEC-47A7-B7AD-8B9096F9A36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93F-8778-4021-93FF-83B7FC5CFBA1}" type="slidenum">
              <a:t>10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ewertung und Mess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Zu betrachtende Medientyp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ypen sollen in Form vo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ace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betrachtet we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Video: MPEG-1, MPEG-2, H.2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udio: G.723, M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tility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 Literatur (keine eigenen Messungen/Umfragen zur wahrgenommenen Qualitä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ssung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um Beispiel Messung v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zahl der Strö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lative Qualität (Nutzen für Anwender aus Utility F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osten (z.B. effektive Bandbreite der DiffServ-Klassen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ü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riviale Version: keine Skalierung, kein EE-An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eine Skalierung, mit EE-An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 Skalierung auf z.B. 90 % und EE-An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3706-C3AD-4D72-B192-39B75E97453C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07D-8F23-438D-98A4-0A0DA197CF2C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Zeitplan und Vorgehenswe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1D66-8AF8-43BE-A8E9-8A0D209E5DC9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1600200"/>
            <a:ext cx="2057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yn. QoS-Beschreibu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edientypen damit besch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2133720"/>
            <a:ext cx="1676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nder und Empfä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mplement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029200"/>
            <a:ext cx="4647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usformulierung der Diplomarb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590920"/>
            <a:ext cx="1676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vall-Algorithm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048120"/>
            <a:ext cx="2514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erteilungs-Algorithm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962520"/>
            <a:ext cx="18288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essungen, Bewer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4080" y="5943240"/>
            <a:ext cx="8082720" cy="749160"/>
            <a:chOff x="604080" y="5943240"/>
            <a:chExt cx="8082720" cy="749160"/>
          </a:xfrm>
        </p:grpSpPr>
        <p:sp>
          <p:nvSpPr>
            <p:cNvPr id="163" name=""/>
            <p:cNvSpPr/>
            <p:nvPr/>
          </p:nvSpPr>
          <p:spPr>
            <a:xfrm flipV="1">
              <a:off x="1371600" y="59590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4080" y="6172200"/>
              <a:ext cx="151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Einleitungsvortr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nmeld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1120" y="61722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Zwischenvortr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8880" y="617220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bgabe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bschlußvortr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001000" y="5943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952880" y="5943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638680" y="4419720"/>
            <a:ext cx="16002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orrektu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3505320"/>
            <a:ext cx="11430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334120"/>
            <a:ext cx="8534520" cy="761760"/>
          </a:xfrm>
          <a:prstGeom prst="rightArrow">
            <a:avLst>
              <a:gd name="adj1" fmla="val 48750"/>
              <a:gd name="adj2" fmla="val 9606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ugust         September      Oktober        November       Dezember       Januar         Febru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371600" y="1295280"/>
            <a:ext cx="0" cy="464832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952880" y="1295280"/>
            <a:ext cx="0" cy="464832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01000" y="1295280"/>
            <a:ext cx="0" cy="464832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256-2397-4310-B593-4B81E631B53F}" type="slidenum">
              <a:t>12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nleitu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as CORAL-Proje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fgaben und Ziele der Diplomarbe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kehr mit konstanter (CBR) und variabler Datenrate (VB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ahl der Neuverteilungsintervalle: Online und Off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„Empirical Envelope“-An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wertung der Skalierung durch Utility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Neuverteilung der Bandbreite im QoS-Manag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ptimierung bzgl. Kosten und Nu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Zeitplan und Vorgehenswe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E6E5-6825-4CA8-9A87-3E11AB59A5CC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9B7-A90A-4C7D-877F-032033BBF926}" type="slidenum">
              <a:t>2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as CORAL-Proje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Was ist COR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municatio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otocols fo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altime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cess to digital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braries ([AKM+00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Übertragung von Multimediadaten von einem Server an mehrere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terstützung von Diff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röme können gelayert s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che QoS-Beschreib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iste von Levels mit QoS-Beschreib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eder Level kann mehrere Layer ent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Je Leve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: Framerate und relative Qu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Je Layer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: Framegröße, max. Verlust, max. Delay, max. J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QoS-Manager: Aufteilung der Bandbreite, Skalierung von Strö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tiv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ffiziente Unterstützung von Verkehr mit variabler Daten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ispiele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PEG-1, MPEG-2, H.263 (Video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P3 (Aud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B4E8-E927-4661-939D-3ECE09384AA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6CD-FB87-4CC2-B0B8-AB2751C4DA23}" type="slidenum">
              <a:t>3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Verkehr mit variabler Daten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 Bit Rate (CB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onstante Datenrate, z.B. RTP A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mal zuteilen 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eine Än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ehr erforder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ble Bit Rate (VB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ariable Datenrate, z.B. MPEG-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eak-Rate reservieren?  =&gt; Viel zu ineffizien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Verhältnis 10:1 Peak-Rate/Durchschnittsrate in Videos nicht ungewöhnlich ([Gumb98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=&gt; Regelmäßige Neuvertei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Auswahl „günstiger“ Neuverteilungs-Interva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638680" y="1371600"/>
          <a:ext cx="3200400" cy="182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371600"/>
                    <a:ext cx="32004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638680" y="3200400"/>
          <a:ext cx="3200400" cy="180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200400"/>
                    <a:ext cx="320040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3D0E-E5AD-448F-A039-3B2F4E17F50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71E-CC7D-4A6A-BE29-07EB204529D7}" type="slidenum">
              <a:t>4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Auswah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der Neuverteilungs-Intervalle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ispiel: siehe [BCC+99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blem: Sehr CPU-intens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f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[Gum98]: Offline-Algorithmus für optimale Neuverteilungs-Interva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Grundlagen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Kosten für Bandbreite und Kosten für Neuvertei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achteil: Medien (z.B. Videos) müssen komplett vorlie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ür CORAL: kein Problem (digitale Bibliothe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=&gt; Verwendung des Offline-Algorith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fgaben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eignete Kostenfunktionen für Bandbreite und Neuvertei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Übertragung auf gelayerte, skalierbare Ströme. Ideen daz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yer gewichten -&gt; Kleinere Intervalle, falls „teurere“ Bandbreite schneller frei w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r verschiedene Skalierungen: Verschiedene Durchläufe, ggf. Approximatio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D4F9-5FF2-4863-9CD8-31ADA1C0CB5B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C78-6DFC-4B71-B905-1C1D4D667506}" type="slidenum">
              <a:t>5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Auswah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der Neuverteilungs-Intervalle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581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e für Erweiteru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yer #1: Hohe QoS-An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yer #2: Geringe QoS-An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. Alle Layer gleich gewicht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„teure“ Bandbr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ür Layer #1 verschwen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 Layer #1 4-fach gewicht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günstigere Interva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Bandbreite besser genutz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inweis: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QoS-Anforderungen sind hier bekannt, nicht aber Zuordnung zu DiffServ-Klass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62520" y="1295280"/>
          <a:ext cx="495288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295280"/>
                    <a:ext cx="4952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62520" y="3886200"/>
          <a:ext cx="4876560" cy="2523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886200"/>
                    <a:ext cx="487656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DF7F-30E8-4CD4-A1B5-1BBD9DFDDCB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CA1-6F90-47F1-8242-053170D58E7E}" type="slidenum">
              <a:t>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er „Empirical Envelope“-Ansatz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ß in einem Intervall die Peak-Rate reserviert 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ein, bei akzeptablem Delay: z.B. Pufferung durch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Leaky Bucket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([LW97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Geringere Bandbreite auf Kosten der Verzög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Mehr Ströme gleichzei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irical Envelo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ximale Anzahl Bytes, die in einem Intervall der Länge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erzeug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(t) = sup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A[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+t]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t &gt; 0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ür A[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] Bytes im Intervall von 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bis 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fga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mpirical Envelope approximieren (für jedes Layer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Zu beachten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Skalierbarkeit des Stromes &lt;=&gt; Skalierbarkeit der Approxi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Leaky Bucket-Parameter: Größe (Puffer) und Ausflußrate (Reservier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29AD-CD60-4FE3-A74C-DF32689799A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CF5-0D16-4C69-ACE3-B02E303DB54E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er „Empirical Envelope“-Ansatz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ispi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Viel bessere Auslas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f Kosten des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CEA1-A5AF-4351-ADD6-D62CCC161D1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24080" y="1523880"/>
          <a:ext cx="5488200" cy="28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523880"/>
                    <a:ext cx="54882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04920" y="3048120"/>
          <a:ext cx="2743200" cy="123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8120"/>
                    <a:ext cx="274320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029200" y="4419720"/>
          <a:ext cx="3581280" cy="195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4419720"/>
                    <a:ext cx="35812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04920" y="4419720"/>
          <a:ext cx="3657600" cy="2000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19720"/>
                    <a:ext cx="36576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6000" y="3200400"/>
            <a:ext cx="38088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7120" y="25909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Peak-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895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038480"/>
            <a:ext cx="380880" cy="30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303-E2D9-48A7-AA6E-DB2434DD5E62}" type="slidenum">
              <a:t>8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Utility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kann man Skalierung bewert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Nutzen für Anwen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Utility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lative Qualität als Funktion der Grö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Framerate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Utilit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2)   = 20 %,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5)   = 50 %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20) = 95 %,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30) = 10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ür MPEG: z.B.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x) =1 - exp(a*x+b), mit a, b Konstanten ([LLR+99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unktion abhängig von Kodierung (z.B. MPEG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onstanten abhängig vom Medium (z.B. einem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stimmt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Fil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ür Diplomarbeit: Funktionen aus Literatur ([CZ99], [LLR+99], [Rog98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&gt; Faire Aufteilung der Bandbr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2514600"/>
            <a:ext cx="380880" cy="380880"/>
          </a:xfrm>
          <a:prstGeom prst="downArrow">
            <a:avLst>
              <a:gd name="adj1" fmla="val 44167"/>
              <a:gd name="adj2" fmla="val 4458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05520" y="2209680"/>
          <a:ext cx="3276360" cy="24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209680"/>
                    <a:ext cx="327636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105520" y="1219320"/>
          <a:ext cx="327816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219320"/>
                    <a:ext cx="32781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8534520" y="63961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F649-9868-40BD-8AF9-018E28C2721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EF4-05DE-41C3-BCCF-9722E15305F1}" type="slidenum">
              <a:t>9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8T17:41:18Z</dcterms:created>
  <dc:creator>Dreibholz Thomas</dc:creator>
  <dc:description/>
  <dc:language>en-US</dc:language>
  <cp:lastModifiedBy>Dreibholz Thomas</cp:lastModifiedBy>
  <cp:lastPrinted>2000-08-21T10:17:29Z</cp:lastPrinted>
  <dcterms:modified xsi:type="dcterms:W3CDTF">2000-08-22T17:59:45Z</dcterms:modified>
  <cp:revision>159</cp:revision>
  <dc:subject/>
  <dc:title>Diplomarbeit, Einleitungsvortrag</dc:title>
</cp:coreProperties>
</file>