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3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29.wmf" ContentType="image/x-wmf"/>
  <Override PartName="/ppt/media/image6.wmf" ContentType="image/x-wmf"/>
  <Override PartName="/ppt/media/image38.png" ContentType="image/png"/>
  <Override PartName="/ppt/media/image41.png" ContentType="image/png"/>
  <Override PartName="/ppt/media/image42.png" ContentType="image/png"/>
  <Override PartName="/ppt/media/image45.wmf" ContentType="image/x-wmf"/>
  <Override PartName="/ppt/media/image46.png" ContentType="image/png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3.png" ContentType="image/png"/>
  <Override PartName="/ppt/media/image54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4.png" ContentType="image/png"/>
  <Override PartName="/ppt/media/image55.wmf" ContentType="image/x-wmf"/>
  <Override PartName="/ppt/media/image35.png" ContentType="image/png"/>
  <Override PartName="/ppt/media/image30.wmf" ContentType="image/x-wmf"/>
  <Override PartName="/ppt/media/image52.png" ContentType="image/png"/>
  <Override PartName="/ppt/media/image13.wmf" ContentType="image/x-wmf"/>
  <Override PartName="/ppt/media/image17.wmf" ContentType="image/x-wmf"/>
  <Override PartName="/ppt/media/image56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50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576-7192-4FA8-B136-7BFE0AA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75084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133-13D6-4408-BDEB-E643E367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75084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75084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4DD-D314-45DC-A561-4AD40B17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75084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75084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750840"/>
            <a:ext cx="2846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E95-EA7E-4299-99F7-55FC0622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7E5-EB5C-4217-9A8F-465AFE70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478-FF9E-493A-B8C1-3D053573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0C0-9791-4D3F-97B0-B75AF0F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25D-7CC6-4FD5-9398-4EAF80B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1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729-365A-4B3A-9EE3-CD810B2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75084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D99-2C9A-4669-B237-D37782E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75084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756-23E1-4C33-94A3-B665416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19160"/>
            <a:ext cx="883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750840"/>
            <a:ext cx="88394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DB5-A37B-4629-A1D7-BBAB84E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38C4-E11B-43EC-B4B9-BCE8822A269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8610480" y="685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839080" y="685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tlinux.org/" TargetMode="External"/><Relationship Id="rId2" Type="http://schemas.openxmlformats.org/officeDocument/2006/relationships/hyperlink" Target="http://www.rtlinux.org/" TargetMode="External"/><Relationship Id="rId3" Type="http://schemas.openxmlformats.org/officeDocument/2006/relationships/hyperlink" Target="http://www.rtlinux.org/" TargetMode="External"/><Relationship Id="rId4" Type="http://schemas.openxmlformats.org/officeDocument/2006/relationships/hyperlink" Target="http://www.rtlinux.org/" TargetMode="External"/><Relationship Id="rId5" Type="http://schemas.openxmlformats.org/officeDocument/2006/relationships/hyperlink" Target="http://www.rtlinux.org/" TargetMode="External"/><Relationship Id="rId6" Type="http://schemas.openxmlformats.org/officeDocument/2006/relationships/hyperlink" Target="http://www.rtlinux.org/" TargetMode="External"/><Relationship Id="rId7" Type="http://schemas.openxmlformats.org/officeDocument/2006/relationships/hyperlink" Target="http://www.rtlinux.org/" TargetMode="External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3808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chlußvortrag zur Diplomarbeit</a:t>
            </a:r>
            <a:br>
              <a:rPr sz="1400"/>
            </a:br>
            <a:br>
              <a:rPr sz="14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Management of Layered Variable Bitrate Multimedia Streams over DiffServ with A Priori Knowledge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omas Dreibhol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Dreibholz@bigfoot.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. Apri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Informationen und Download auf der Homep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ttp://www.bigfoot.com/~dreibholz/diplom/index.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103-CE6A-47A8-8E78-287D8026C3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4 Optimier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ptimierung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t Intervall-Liste von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jed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rame zum Medien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Pfad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m ersten Frame zum Medienende speich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tl. mehr NVTs bei häufigem Frame-Rate-Wech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 der Praxis jedoch unproblematis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deo mit 40.000 Frames, 1-25 Frames/s, 3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hne Optim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50 MByt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Verkehrsbeschrei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Optimierung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0 M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m Vergleich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0 MBytes für MPEG-Video selb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ptimierung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einfach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ale und maximale Intervall-Läng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ngestel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Konstan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aufzeit für Längen-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Laufzeit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(n^2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(n^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4120" y="228600"/>
          <a:ext cx="36576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6576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4120" y="4586400"/>
          <a:ext cx="4114800" cy="22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586400"/>
                    <a:ext cx="41148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728-6BC5-45F5-B5E7-353FB0CDBC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4724280"/>
            <a:ext cx="8686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858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Zur Bandbreite-Verteilung notwendi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nung einer Liste von s.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/Utiliz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Punk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source/Utilization-Punk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Gesamt-Bandbre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-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 für Layer #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 für Layer #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Bestmögliche Einstellung für Gesamt-Bandbr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 für Layer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ource/Utilization-Pun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bestimm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kalierungseinstel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den St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Bandbreiten gelten für Puffer-Delay von 1 Fram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rechnung in andere Delays: mittels Verkehrsbeschreibung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1 Resource/Utilization-Lis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42900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470"/>
                </a:lnTo>
                <a:cubicBezTo>
                  <a:pt x="10800" y="8370"/>
                  <a:pt x="16200" y="9270"/>
                  <a:pt x="21600" y="9270"/>
                </a:cubicBezTo>
                <a:cubicBezTo>
                  <a:pt x="16200" y="9270"/>
                  <a:pt x="10800" y="10170"/>
                  <a:pt x="10800" y="110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4F7-7AEF-4490-A91D-FDD0507025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248520" y="4495680"/>
            <a:ext cx="259056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343400" y="1498680"/>
          <a:ext cx="4495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498680"/>
                    <a:ext cx="4495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2 Berechnung von Resource/Utilization-Lis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685800"/>
            <a:ext cx="88394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Herausforder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/Utilization-Punkte sollten möglich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gleichmäßig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teilt s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5 Punkte für Utilization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20% aber nur 5 für den 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kursiver Algorithm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nkt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ufnehmen, wen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  |p.Links.Utilization - p.Utilization| &gt;= UtilizationThreshold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p.Rechts.Utilization - p.Utilization| &gt;= UtilizationThreshold]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  |p.Links.Resource - p.Resource| &gt;= BandwidthThreshold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p.Rechts.Resource - p.Resource| &gt;= BandwidthThreshol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bruchkriteri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gegebene Anzahl von Punkten gefu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imale Stufe erre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fwand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 teuer für Online-Anwendung (insbesondere Punkte mit max. Utilization berechnen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Liste ebenfall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erech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905120"/>
          <a:ext cx="34290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0512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248520" y="4495680"/>
            <a:ext cx="25905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Beispielwert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zationThreshold  = 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ndwidthThreshold = +unend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8CF-4BE7-4DAF-9606-A141ECAFCD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1 Anforderungen an das Bandbreite-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ession-Konz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h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eam-Prior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gehören zu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ssion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h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ssion-Prior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nimale und maximale Bandbre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rioritäten und Fairneß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teilung ha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ioritä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male/maximale Bandbreite-Wüns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be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einer Session soll die Verteilung 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tility-fai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Gleiche Qualität für alle Ströme bei gleicher Prior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obal soll Verteilung z.B.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samt-Utiliz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xim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t 1 Video mit 10%, 20 Audio-Ströme mit 10% Qualitä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deo mit 5% und alle Audio-Ströme mit 100% Qualitä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Virtueller Supermar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Kunde eine Session mit folgenden Strea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D-Szenerie (sehr hohe Priorit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bevideo im Vordergrund (MPEG-2, hohe Priorit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bevideo im Hintergrund (MPEG-1, geringe Priorit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 (MP3, mittlere Priorit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-Informationen (niedrige Priorit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Vertei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tility-fair innerhalb der Sessions; global Gesamt-Utilization maxim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9BE-FADD-4FA3-82D3-2EBDB3F7F4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2 Überblick zum Bandbreite-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 priori verfügb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oS-Anforder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je Lay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Delay, Verlustrate und J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kehrsbeschreib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j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r 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yload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/Utilization-L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s Messungen/RTCP Receiver Rep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ktue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ngaben zur Qualität jeder DiffServ-K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lus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Überblick zur Bandbreite-Ver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Fü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je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esource/Utilization-Punkt der aktuellen Liste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jed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r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län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Payload-Angaben add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-sortierte Liste möglicher DiffServ-Klass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rechnen (incl. Puffer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Eigentliche Bandbreite-Ve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8440" y="522288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676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1676520"/>
            <a:ext cx="152280" cy="53316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29200" y="1066680"/>
          <a:ext cx="397368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066680"/>
                    <a:ext cx="39736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581280" y="228600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666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E1B-3BCF-46B9-90BF-DAA52FEB62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4114800"/>
            <a:ext cx="76960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lgorithmu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Resource/Utilization-Punk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ktuel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s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Addition vo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ader-Län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IPv4/IPv6, UDP, RTP, Anwendung) zu den Payload-Anga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s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öglichen DiffServ-Klass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jedes Layer berech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Klasse muß QoS-Anforderungen für Delay, Verlustrate und Jitter erfüllen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Pufferung spart Bandbreite auf Kosten des Delays. Max. möglich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fferungsverzög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erechn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Bandbreitenbedarf b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ximaler Puff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erechnen =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sten je 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rti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Liste aufsteige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ach 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 des Punktes := Summe der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illigst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Zuordungen über all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gebn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je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Resource/Utilization-Punkt de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ktuell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Lis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sten-sortierte Lis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von mög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ffServ-Klassen-Zuweis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Bemerkun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chnung nur notwendig bei neuer Resource/Utilization-Liste 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Änderung der Klassenparameter -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llelisierba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da unabhängig von allen anderen Strö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3 Zuweisungen von Layern zu DiffServ-Klass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8440" y="522288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133720"/>
            <a:ext cx="8534520" cy="13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fferDelay := MaxTransferDelay - (1.0+DelayTolerance)*Delay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Clas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- System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xTransferDelay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enutzer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/Anwend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ayToleran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leranz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ay-Variabilitä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DiffServ-Klasse (in % des Del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Toleran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leranz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z.B. Scheduling, in Zeiteinheit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E72-CEA6-4483-81AD-4BAF64B37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762120"/>
            <a:ext cx="53337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3 Zuweisungen von Layern zu DiffServ-Klass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Strom mit 2 Layern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ay-Limit des Benutzers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5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-Delay-Toleranz: 20 ms, Frame Rate: 10 Frames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mpirical Envelopes: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Klassen-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ür Layer #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Gewinn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ff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utlich größ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Bandbreite und Kosten für jede mögliche Klas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v2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810240" cy="25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495680" y="1600200"/>
          <a:ext cx="4434120" cy="91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600200"/>
                    <a:ext cx="4434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28600" y="4572000"/>
          <a:ext cx="5160960" cy="2022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572000"/>
                    <a:ext cx="51609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4920" y="1600200"/>
          <a:ext cx="4041720" cy="22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600200"/>
                    <a:ext cx="40417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638680" y="43434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breite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342900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ayer #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F am bill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Pufferung: 5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ayer #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F11 am bill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Pufferung: 1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05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391160" y="34290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733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876920"/>
            <a:ext cx="4572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6400800"/>
            <a:ext cx="4572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CFC-34EB-4806-9A70-7A26AEF193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4 Der ASRMD1-Algorithm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rundla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Algorithm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RMD1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[LS98]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(Approx. für das Single Resource Multiple QoS Dimension Probl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chn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vexe Hül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jeder Resource/Utilization-Liste („schlechte“ Punkte entfern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einige Resource/Utilization-Listen aller Ströme (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zusätzlic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Strom-ID je Punkt merken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rtiere diese Liste na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laufe Liste und versuche, jeden Punkt zu alloz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Eine Verteilung, welche di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tilization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Ström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ximi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aber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fa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r Sortierung na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tiliz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st das Ergebnis ein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tility-fai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Verteil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ür 120 Bandbreite-Einheite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fair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70 (100%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40 (50%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och 10 fr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ir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40 (90%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80 (80%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 fr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n in der Diplomarbeit: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weiterung des Algorithmus mit Unterstützung fü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orit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figurierba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airneß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getrennt für Sessions und 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ffServ-Klass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tatt einer Resource (= Bandbre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8600" y="3124080"/>
                <a:ext cx="29084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om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4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9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rom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4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8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334120" y="2666880"/>
                <a:ext cx="36417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4120" y="3657600"/>
                <a:ext cx="36417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523880" y="3124080"/>
            <a:ext cx="533520" cy="609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23880" y="3124080"/>
            <a:ext cx="533520" cy="609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666880"/>
            <a:ext cx="16002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vexe Hü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28800" y="2971800"/>
            <a:ext cx="763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819520"/>
            <a:ext cx="16765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tilization maxim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809880"/>
            <a:ext cx="16765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tility-faire Ver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24D-65EE-4EA7-9C55-E6478402ED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4038480"/>
            <a:ext cx="8382240" cy="243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dee #1 („Sortierwert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SRMD1-Algorithmus: Fairneß abhängig von Sor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Berechne für jeden Punk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rtier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abhängig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Punk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ior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Str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irneß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Kon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nforder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höher der Sortierwert, desto später wird der Punkt alloz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höher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ior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esto kleiner muß Sortierwert s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höh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irneß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esto mehr muß Sortierwert v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bhä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rtierwer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= Prioritätsfaktor*(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esource)*(1-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Fairneß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 + Utilization*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Fairneß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ioritätsfakto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= (1/256) * (256 - (Priorität + 128))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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in Bytes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tilization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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oritä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-128,127]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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Fairneß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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0=unfair, 1=f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esource) := Resource/Gesamtbandbreite des SL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Normierung, zum Vergleich mit Utiliz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4 Bandbreite-Vertei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D62-727C-4369-BFA2-AE58FAF6D8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2666880"/>
            <a:ext cx="8381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4 Bandbreite-Vertei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dee #2 („ Multipunkte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Resource/Utilization-Punkt enthäl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litätseinstell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ein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o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a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hle von jedem Strom der Session einen „passenden“ Resource/Utilization-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n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passend -&gt; ähnliche Sortierwer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ge diese zu einem Resource/Utilization-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ltipunk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zus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Multipunkt is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litätseinstell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di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ltipunkt-Resource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umm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nkt-Resourc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ltipunkt-Utilization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urchschnit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nkt-Util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ltipunkt-Sortierw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Analog zu Strom-Sortierwert, nur mi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-Prioritä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SessionFairne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ource/Utilization-Lis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ll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öm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Ses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ource/Utilization-Mulitpunkt-Lis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om-Prioritäten: beide -128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ssion-Priorität: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r) := r/1000 KBytes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Fairneß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1 (fair)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SessionFairneß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0 (unfair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0880" y="5029200"/>
                <a:ext cx="38354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om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0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7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40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rom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75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7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00 KB/s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0 %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4952880"/>
                <a:ext cx="4013280" cy="16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KB/s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 %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75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5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KB/s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5 %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5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0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5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KB/s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5 %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75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0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5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5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6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75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KB/s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0 %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875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5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7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75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7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0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KB/s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 %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40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00 KB/s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0 %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267080" y="5638680"/>
            <a:ext cx="457200" cy="304920"/>
          </a:xfrm>
          <a:prstGeom prst="rightArrow">
            <a:avLst>
              <a:gd name="adj1" fmla="val 41667"/>
              <a:gd name="adj2" fmla="val 702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846-FBC1-4306-AB17-94E0B18BA1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143000"/>
            <a:ext cx="8763120" cy="510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 Gesamtüber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irical Envelope und Verkehrsbeschrei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t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Die Berechnung von Neuverteilungsinter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Die Berechnung von Resource/Utilization-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as Bandbreite-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 Die Implementation und die verwendeten T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 Simulationen und Mes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. Zusammenfassung und Ausblick auf weitere Heraus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2D6-477F-4A37-B11E-BECB45DC14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4 Bandbreite-Vertei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dee #3 („Erweiterung von ASRMD1“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nde ASRMD1-Algorithmus auf Multipunkte an. Zur Sortierung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-Sortierw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enutz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b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glass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vexen Hül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sehr ineffizient bei konkaven Utility Function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Allozierung eine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ource/Utilization-Multipunkt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Sessio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nd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nkt-Allozi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uf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nthaltenen Resource/Utilization-Punkte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nkt-Allozierungen dürfen fehlschla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ann ab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Keine Versuche für weitere Multipunkte dieser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Allozierung eine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ource/Utilization-Punkt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Strom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uche Allozierung für jede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e DiffServ-Klassen in Kosten-Reihenfolge =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illigs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lasse nut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hlversuch b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Layer =&gt; Allozierung des Punktes is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mplet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ehlgeschl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gf. erfolgreiche Layer-Allozierungen müssen rückgängig gemacht werd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nalo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ns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m Datenbank-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dee #4 („Partielle Neuverteilungen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Bis jetz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Neuverteilung fü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in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trom -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mplette Neuverteil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trö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Optimi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Neues Intervall für Strom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&gt; Nur Bandbreite-Anpassung für Strom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ndbreite-Anteil exklusiv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diese s.g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tiellen Neuvertei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gelmäßi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mplette Neuverteil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z.B. alle 5 bis 10 Sekund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Nachtei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Ggf. „schlechtere“ Verteilungen, Parameter sehr stark abhängig vom Sz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AC2-34E9-4688-AFC6-941157E1D5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124080"/>
            <a:ext cx="46479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y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packung (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Protok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aky Bucket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raffic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ffServ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Markierung (TOS/Traffic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b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s über nu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nsport-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UDP über IPv4 oder IPv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Wenige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ystemresourc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tc.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aky Buck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endet berechnete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BufferDelay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W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es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Überlau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falls BufferSize &gt; BufferDelay* Output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ale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ffServ-Szenari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it Clients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DiffServ-Routern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LinuxD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Imple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Delays im Labor unrealisti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lay-Unterschiede im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Mikr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kunden-Berei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1 Das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y0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429000" cy="274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" name="y1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3429000" cy="30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 flipV="1">
            <a:off x="4419720" y="22860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B32-A444-4DB2-8CFC-405E548796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2 Grundlagen der Simulationen und Mess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Für Sim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te 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lustra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nsta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wg. Vergleichbarkeit der Ergebni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m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real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ystem: Schwankungen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Grundl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Glasfaser-Verbind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ä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00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Signallaufzei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n. Anzahl Router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ure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lassen -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ürze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Que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Delay und Jitter ge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: ausreichend, damit jedes Layer „beste“ Klasse erhä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 der Praxi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listis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urch Einsatz v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width Brok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iehe [Sel01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päter zu zei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verhält sich das System be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wank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Delay, Verlustrate, J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napp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Bandbreite in bevorzugten Kl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QoS-Anforderungen der MPEG-Strö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n 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is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Möglichkei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1: EF, AF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2: EF, AF41, AF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3: EF, AF41 bis AF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eiterungslay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62520" y="1447920"/>
          <a:ext cx="5021280" cy="15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5021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419720" y="4800600"/>
          <a:ext cx="4516200" cy="177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800600"/>
                    <a:ext cx="451620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2EF-31C1-436B-8E53-52D0E2E2A0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3.1 Tr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rundl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PEG-1-Traces aus Würzburg, [Wür9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PEG-2-Traces: aus MPEG-1-Traces erzeu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3-Traces aus Berlin [Ber00] +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P3-Traces von VBR-MP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rzeugt mit LAME-Encoder von CDs/Napster Downloa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rechnung der Neuverteilungsintervalle: 2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wichtet: 4/3/2 (MPEG-1), 4/3/2/1.5/1.3/1.2/1.1/1.0/1.0 (MPEG-2), 4/3/3/2 (H.2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gewich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tility Functions für Vide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befragungen in [Apt95] =&gt;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r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4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geord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-Rate wichtig/weniger wich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-Größe wichtig/weniger wich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Video-Traces zu Kategorie zuord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s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tility Function für jede Kateg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tility Function für MP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s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tility Function für alle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114800" y="4648320"/>
          <a:ext cx="4811760" cy="8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648320"/>
                    <a:ext cx="4811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1B5-D1B5-412A-BC50-8D55B4E263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3.2 Utility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ormel für Video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  Anzahl der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kt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von l+1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kalierungsfakto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ame R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ame Siz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jedes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kalierungsfaktor au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[0,1]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 -&gt; Minimalwert, 1 -&gt; Maximalwert,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(x-Min)/(Max-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wich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 Frame Size Utilization von Layer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  Utility Function für Größe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(x) = a*ln(b* x +c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aus [Rog98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edrige Anforderungen -&gt;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konkex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Utilization steigt schn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Anforderungen -&gt;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konkav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Utilization steigt langsam)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ormel für Audio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e aus [LS98]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gabe des Skalierungsfaktors für 50% und 95% Utilization =&gt; 2 Pun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Interpolation durch konvexe Funktion U(x) = 1 - exp(a* x +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562720" y="2895480"/>
          <a:ext cx="3352680" cy="24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895480"/>
                    <a:ext cx="33526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V="1">
            <a:off x="5715000" y="4191120"/>
            <a:ext cx="762120" cy="8380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38680" y="4876920"/>
            <a:ext cx="106704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42960" y="1143000"/>
                <a:ext cx="61340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ϑ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ameRate</m:t>
                            </m:r>
                            <m:r>
                              <m:t xml:space="preserve">(</m:t>
                            </m:r>
                            <m:r>
                              <m:t xml:space="preserve">ϑ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nary>
                              </m:den>
                            </m:f>
                            <m:r>
                              <m:t xml:space="preserve">∗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meSize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ϑ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28600" y="31240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0B3-269E-4066-9689-EF388D04DF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3.3 Video Utility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47760" y="685800"/>
          <a:ext cx="844848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685800"/>
                    <a:ext cx="84484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121-5EDC-40B9-8BD7-81C118C012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.3.4 Audio Utilit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udio" descr=""/>
          <p:cNvPicPr/>
          <p:nvPr/>
        </p:nvPicPr>
        <p:blipFill>
          <a:blip r:embed="rId1"/>
          <a:stretch/>
        </p:blipFill>
        <p:spPr>
          <a:xfrm>
            <a:off x="552600" y="685800"/>
            <a:ext cx="80388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646-66C8-4C53-917C-7A823AAA24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 Überblick zu Simulationen und Mess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imulationen und Mess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1 Vergleich von Pufferung, Layering, Gew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2 Vergleich der Skal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3 Schwankende Netzqua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4 Beispiel zu Strom- und Session-Priorit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5 Übertragbarkeit auf das reale Meßsz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06A-8888-47E5-902E-510D7A47AB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1 Vergleich von Pufferung, Layering, Gewich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stellun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PEG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für MP3, MPEG-2 und H.263 siehe Ausarbeit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Ströme: 100% 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schnit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 alle Strö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 ausreichend (1 GB/s) -&gt; immer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 Kla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lay-Limits von 100ms bis 100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ulationszeit: 800 Sek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4 Simul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gewichtete Traces, gleiche DiffServ-Klasse für alle Lay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Unglayered + Not Weigh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gewichtete Traces, verschiedene DiffServ-Klassen erlaub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Layered + Not Weigh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wichtete Traces, gleiche DiffServ-Klasse für alle Laye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Unlayered + Weigh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wichtete Traces, verschiedene DiffServ-Klassen erlaub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Layered + Weigh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BF3-26DA-4608-9BB8-9CC824A41B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3560760"/>
            <a:ext cx="4343400" cy="3068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343400" cy="3068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1 Ergebnisse als absolute Wer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6320" y="3343320"/>
            <a:ext cx="4647960" cy="3286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324480" y="175248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he Kosten/Bandbreite-Redu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schon fü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inge De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stenfakt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(Kosten/Bandbreite) fü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ungelay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öme hö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Grund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iffServ-Klasse für Layer 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öchsten Anforderungen für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Lay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hier Layer #1: EF oder AF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72428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breite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4864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faktor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267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gelay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181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lay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71440" y="5028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1DF-6329-4376-805F-FD82901215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0. Gesamtüberbli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038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Z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ffiziente Übertra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ay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alierb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öme über Diff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CORAL-Konzept [AKM+00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yse der Med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kehrsbeschrei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verteilungsinter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ource/Utilization-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ndbreite-Vertei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a1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572000" cy="2479680"/>
          </a:xfrm>
          <a:prstGeom prst="rect">
            <a:avLst/>
          </a:prstGeom>
          <a:ln w="0">
            <a:noFill/>
          </a:ln>
        </p:spPr>
      </p:pic>
      <p:pic>
        <p:nvPicPr>
          <p:cNvPr id="50" name="a2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457200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982-9991-4069-9FF8-37B6369DDA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685800"/>
            <a:ext cx="35816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3375000"/>
            <a:ext cx="4496040" cy="3176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8320" y="3376440"/>
            <a:ext cx="4495680" cy="3176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48320" y="555480"/>
            <a:ext cx="4495680" cy="3178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1 Ergebnisse als relative Wer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144792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arstellung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hrkosten zu Gewichtet/Gelayert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gelay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ur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aber tw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andbre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sere Pufferung bei schnellerer 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b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Mehrkosten nicht ausgleichba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wicht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spart bis zu 10% Kosten + Bb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r hohe Delays weniger (kaum Klassenwechs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43434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breite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57150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faktor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486400"/>
            <a:ext cx="30492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2286000"/>
            <a:ext cx="380880" cy="304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648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gelay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4800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905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gelay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2514600"/>
            <a:ext cx="19047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lay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76360" y="5562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2895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gewicht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629040" y="2666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315200" y="2361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4876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gewicht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705360" y="5181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857640" y="5181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300-E365-45A2-B964-4907D3B6FB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2 Vergleich der Skalierbarke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stellungen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PEG-1 und MP3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MPEG-2 und H.263 siehe Ausarbeit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breite ausreichend (1 GB/s) -&gt; immer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 Kla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lay-Limits von 100ms bis 100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ulationszeit: 800 Sek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urchschnit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über alle Strö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ruppie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nach Anforderungen für Frame Rate und Frame Siz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w/Low, Low/High, High/Low, High/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Je Gruppe: 4 Simu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tilization-Begrenzung (10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tilization-Begrenzung von 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tilization-Begrenzung von 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tilization-Begrenzung von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438280" y="3505320"/>
          <a:ext cx="4811760" cy="8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505320"/>
                    <a:ext cx="4811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C0F-780D-481F-A96F-DF8B594506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2 Ergebnisse für MPEG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114800" cy="2906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52280" y="3645000"/>
            <a:ext cx="4114800" cy="290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952880" y="3645000"/>
            <a:ext cx="4114800" cy="290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952880" y="685800"/>
            <a:ext cx="4114800" cy="2908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66680" y="762120"/>
            <a:ext cx="2286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00%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762120"/>
            <a:ext cx="2286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. 75%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733920"/>
            <a:ext cx="2286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. 25%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3733920"/>
            <a:ext cx="2286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x. 50%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600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07560" y="1698480"/>
            <a:ext cx="26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he Anforderungen für Frame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2362320"/>
            <a:ext cx="30492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066680" y="19051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79200" y="4670280"/>
            <a:ext cx="302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sere Pufferung bei hoher Fram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Grun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„Frame-Lück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5334120"/>
            <a:ext cx="9144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790960" y="5105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48006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um mehr Pufferungsgewinn bei niedrigen Frame-R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867280"/>
            <a:ext cx="38088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066320" y="5257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4290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839-CFFF-48DD-BA3E-321FA4A3E0C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46732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2 Ergebnisse für MP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stell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Szenario nun für MP3: Utilization-Limits von 100%, 75%, 50% und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b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P3 besitz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nstan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rame Rate v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8 Frames/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nicht Frame Rate-skalier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her: Nur Skalierung der Frame-Größ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gen Utility-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95% schon bei 40% Bandbreit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r Unterschied zwi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% und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 Unterschiede zwi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% / 50% / 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 Frame-Rate konsta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roß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Pufferungsgewinn auch fü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i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tilizat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50920" y="419112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0%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7600" y="4800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75%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2971800"/>
            <a:ext cx="205740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/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40044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47676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E87-FA76-40C9-9B83-2DB3C7700B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3 Schwankende Netzqualitä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m realen Netzwe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wankungen von Delay, Verlustrate und Ji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DiffServ kann keine Ende-zu-Ende-Garantien geb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oS-Management muß darauf reag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MPEG-1-St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ffServ-Klassen-Einstell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zenario #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zenario #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0s - 60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F-Bandbreite 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5s - 105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11-Delay von 300ms auf 75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0s - 150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lustrate von AF21 von 0.02% auf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00200" y="3276720"/>
          <a:ext cx="6445080" cy="113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76720"/>
                    <a:ext cx="6445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CA-1C72-47B5-8569-A039C026FF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3 Vergleich der Ergebnis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zenario #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zenario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656080" cy="1876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2638440" cy="1865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4724280"/>
            <a:ext cx="2638440" cy="1865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324480" y="1143000"/>
            <a:ext cx="2638440" cy="1865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324480" y="2971800"/>
            <a:ext cx="2638440" cy="1865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2638440" cy="186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666880" y="1143000"/>
            <a:ext cx="381024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Layer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0s-60s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F21 statt EF. Da langsame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Pufferung -&gt;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Bb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5s-105s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Billige und schnelle AF11-Klasse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wird statt teurem EF genutz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Layer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5s-105s: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F11 bleibt, aber da De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kleiner: Durch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ufferung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ca. 25%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weniger Bandbre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Layer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5s-105s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Billige und schnelle AF11-Klasse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wird statt teurem EF genutz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0s-150s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AF11 statt AF21. Da langsame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Bandbreitebedarf größ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Pufferung -&gt;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Bb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133720"/>
            <a:ext cx="6094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362320"/>
            <a:ext cx="60948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4038480"/>
            <a:ext cx="6094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3886200"/>
            <a:ext cx="6094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5334120"/>
            <a:ext cx="6094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5105520"/>
            <a:ext cx="60948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85800"/>
            <a:ext cx="312444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ervierte Bandbreite/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647-74BE-4000-8367-994F5BAFC8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3 Vergleich der Ergebnis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zenario #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zenario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5s-105s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illige und schnelle AF11-Klasse wird genutzt =&gt; Erhebliche Kostenredu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yer werden i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lligs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fügbare Klasse gel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bleiben so gering wie mögli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bei Änderungen von Delay, Verlustrate und J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572000" cy="3230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572000" cy="3232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352680" y="1143000"/>
            <a:ext cx="259092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breitekosten/Z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26668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304812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3A3-C6A3-406E-A99C-8FCEA71FCF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4 Beispiel zu Strom- und Session-Prioritä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instell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 m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mitier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ndbreit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sonst: 100% Utilization für alle Strö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Sessions mit je 4 verschiedenen Strö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zenario #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oritä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gleic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zenario #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chieden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oritä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ü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ssions und Strö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Fairneß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nerhalb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fa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Systemnutzen maximier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teilung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ir innerhalb der Session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siehe Szenario #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fair global (Talk besser als Super Bowl, da Anforderungen gering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orisierung funktionier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Szenario #2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per Bowl (Session-Priorität 100) deutlich besser als 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öme in Session #1: Utilization je nach Prior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295280"/>
          <a:ext cx="5726160" cy="26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95280"/>
                    <a:ext cx="57261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086600" y="3962520"/>
          <a:ext cx="1911240" cy="26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3962520"/>
                    <a:ext cx="191124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600200" y="4495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4800600"/>
            <a:ext cx="533520" cy="1066680"/>
          </a:xfrm>
          <a:custGeom>
            <a:avLst/>
            <a:gdLst/>
            <a:ahLst/>
            <a:rect l="l" t="t" r="r" b="b"/>
            <a:pathLst>
              <a:path w="336" h="672">
                <a:moveTo>
                  <a:pt x="336" y="0"/>
                </a:moveTo>
                <a:cubicBezTo>
                  <a:pt x="168" y="112"/>
                  <a:pt x="0" y="224"/>
                  <a:pt x="0" y="336"/>
                </a:cubicBezTo>
                <a:cubicBezTo>
                  <a:pt x="0" y="448"/>
                  <a:pt x="280" y="616"/>
                  <a:pt x="336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6FD-3B4A-400F-B4C9-A7BDFD7355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.5 Übertragbarkeit auf das reale DiffServ-Szen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imulation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r exakt -&gt; Versand zum exakten Soll-Zeitpun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lauf des Leaky Bucket nur einmal nach Klassen- oder Frame Rate-Wechsel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„Speed Adjustment Approach“: Versuche zuerst, Inhalt des Buckets an Änderung anzupass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ales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zögerungen (Andere Prozesse, I/O, 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Versandzeitpunk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genau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aky Bucke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ann dan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überlauf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&gt; Verlu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ystem-Delay-Toleranz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uf „sinnvollen“ Wert set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Mess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-Ströme-Szenario (ein Strom je Medienty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ufzeit: 120 Se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-Delay-Toleranzen bis 10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 für Neuverteilung und Berechnung v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ste „Layer -&gt; DiffServ-Klass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simulation: 6 „erlaubte“ Überläu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ms bis 70ms reichen als Toleranz a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.5ms bis 7.5ms für Neuvertei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ms (MP3) bis 18ms (MPEG-2) für Klasse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=&gt; System arbeitet effizient, Simulationsergebnisse sind auf reales System übertrag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552920" cy="321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5638680" y="3809880"/>
            <a:ext cx="2667240" cy="3373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läufe/Delay-Tolera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510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10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705360" y="53341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391160" y="5334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783-7DCA-40A5-816B-F438BD012E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7.1 Zusammenfas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esign u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 priori Berechnung von Neuverteilungsintervallen und Resource/Utilization-Lis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layer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alierb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BR-Multimediaströ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nline-Bandbreitevertei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mehreren DiffServ-Kl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optimierter Puffe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ung für Sessions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figurierbare Fairneß (innerhalb Sessions und glo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imulatio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ei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tion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arbeite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ffiz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Mess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eig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ulationsergebnisse lassen sich (mit zusätzlicher Delay-Toleranz von 50ms - 70ms)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ales System über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8CF-E93D-4BE8-840B-1E24C343E4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848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1 Der „Empirical Envelope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ition des Empirical Envelo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imale Anzahl Bytes, die in einem Intervall der Läng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zeug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(t) = su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 &gt; 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[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t]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 &gt; 0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[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] Bytes im Intervall von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is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=&gt; Durch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ufferung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z.B. mit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Leaky Bucket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Viel bessere Auslast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uf Kosten der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erzögeru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48320" y="1828800"/>
          <a:ext cx="434484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828800"/>
                    <a:ext cx="43448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2133720"/>
          <a:ext cx="2743200" cy="123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133720"/>
                    <a:ext cx="274320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48320" y="4191120"/>
          <a:ext cx="4343400" cy="2367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191120"/>
                    <a:ext cx="434340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8600" y="4191120"/>
          <a:ext cx="4341960" cy="2374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191120"/>
                    <a:ext cx="43419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0" y="2286000"/>
            <a:ext cx="38088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124080"/>
            <a:ext cx="38088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86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ak-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728-8EC2-44A2-B46B-8928E7D021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7.2 Ausblick auf neue Herausforder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tz de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ndwidth Broke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 [Sel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gleich mi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line-Analy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 [Vey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e Untersuchungen zu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rtiellen Neuverteilun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Adaptive Parameteranpas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e Untersuchungen zu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irneß-Einstellung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besondere Werte zwischen 0 (unfair) und 1 (f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extr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eine Delay-Tolera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tz von Echtzeit-Betriebssystem, z.B. RTLinux,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://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rtlinux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 eines großen DiffServ-Net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istische Schwankungen für Delay und J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luste durch Hintergrundlast (insbesondere BE, aber auch A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 real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tatt 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reale“ Utility Functions, z.B. mit Qualitätsmetrik ermitt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utzer-Befragungen zur Qualität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9A6-F908-4DF6-8D41-C8CF1F5D10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83808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chlußvortrag zur Diplomarbeit</a:t>
            </a:r>
            <a:br>
              <a:rPr sz="1400"/>
            </a:br>
            <a:br>
              <a:rPr sz="14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Management of Layered Variable Bitrate Multimedia Streams over DiffServ with A Priori Knowledge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omas Dreibhol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Dreibholz@bigfoot.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. Apri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Informationen und Download auf der Homep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ttp://www.bigfoot.com/~dreibholz/diplom/index.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D44-B786-4438-9CE1-26A6489BFA6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 Verkehrsbeschreib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85800"/>
            <a:ext cx="88394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lette Speicherung des Empirical Envelope zu ineffizient =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-BIND- und 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</a:t>
            </a:r>
            <a:r>
              <a:rPr b="0" lang="de-DE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)-Modell im Vergl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-Model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von Leaky-Bucket-Parameter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Größe,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usflußr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(t) = Min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+ t*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(t) ist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im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nve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Bucket-Größe fest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-BIND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Det. Bounding INterval-length Dependent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von Tupeln (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tenrate für Intervallänge I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(t) ist lineare Interp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(t)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muß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konvex sei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genauer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ssungen in [KZ97] bele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ximation durch D-BIND ist gen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68880" y="3962520"/>
          <a:ext cx="4722840" cy="25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3962520"/>
                    <a:ext cx="47228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268880" y="1143000"/>
          <a:ext cx="4722840" cy="250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143000"/>
                    <a:ext cx="47228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C66-3FE0-43A4-944B-E97F0C19C4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3200"/>
            <a:ext cx="35053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Fr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läßt si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wirk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kal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wert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tzen für Anwender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tility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ve Qualit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 Funktion der skalierten Größ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spielfunktion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(x) = 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(x) = a*ln(b*x+c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Rog9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(x) = 1-exp(a*x+b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LS9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tility Function der Frame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  = 20 %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)   = 50 %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0) = 95 %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0) = 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t Utility Functions wird sinnvolle (z.B. utility-faire) Aufteilung der Bandbreite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3 Zur Wiederholung: Utility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800600" y="2971800"/>
          <a:ext cx="403848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40384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105520" y="1523880"/>
          <a:ext cx="373356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523880"/>
                    <a:ext cx="37335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73392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6CD-8A94-4311-8779-C90F44F19F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1 Auswahl von Neuverteilungsinterval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85800"/>
            <a:ext cx="88394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ne Reservierung für komplette Laufzeit zu ineffiz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uvertei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bestimmten Abstä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erausford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Festlegung „sinnvoller“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uverteilungsinterv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rundlage: Algorithmus aus [Gum9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ptima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ü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Bandbr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Neuvertei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zeit: O(n^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sgabe-Lis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je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rame: Länge und Verkehrsbeschrei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n in der Diplomarbe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ei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ayer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kalierb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gl. Frame-Rate, Frame-Größe) Medienty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48320" y="1447920"/>
          <a:ext cx="48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8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14600" y="3809880"/>
          <a:ext cx="4538520" cy="127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809880"/>
                    <a:ext cx="45385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E5A-2F32-4A72-96F1-4B577D22CD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685800"/>
            <a:ext cx="88394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-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weils ein Layer für I-, P- und B-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-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Nu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islay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niedrige Auflösung. M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eiterungslay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): hohe Auflös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alisier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Intervalle gelten 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VT-Aufwand gering hal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i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yer mit hohen QoS-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zgl. Delay, Loss und Jit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teure DiffServ-K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Möglichst kurz reserv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ichtiger Hinwe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oS-Anforder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ind bekan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weisungen Layer -&gt; DS-Klasse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 zur Bandbreite-Verteil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886200"/>
            <a:ext cx="28954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2 Erweiterung auf gelayerte Medientyp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037040" y="1676520"/>
          <a:ext cx="4957560" cy="246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7040" y="1676520"/>
                    <a:ext cx="495756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038480" y="4157640"/>
          <a:ext cx="4953240" cy="2392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157640"/>
                    <a:ext cx="495324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47920" y="3962520"/>
                <a:ext cx="145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osten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ayer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4572000"/>
            <a:ext cx="2819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 - Gewicht für Laye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i - Bandbreitekosten für Laye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FAF-E82F-4787-A9EE-3ECBBFCF98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3 Erweiterung auf skalierbare Medientyp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kalierung der Frame-R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ögliche Frame-Rate: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tervall-Lis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Grun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kehrsbeschreibung für Frame-Rate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ag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 FrameRate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ei MPEG Video: Weglassen von Frames zufällig bzw. nach Qualitäts-Metr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kalierung der Frame-Grö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Konstan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kalierungsfakt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ines La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mpirical Envelope wird skalier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0,5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urch Block Dropping bei MPEG [ZL96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amit notwendi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dene Frame-Typen bzgl. Skal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&gt; verschieden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30640" y="2438280"/>
          <a:ext cx="3883320" cy="20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0640" y="2438280"/>
                    <a:ext cx="388332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29200" y="4495680"/>
          <a:ext cx="388620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495680"/>
                    <a:ext cx="3886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181480" y="4267080"/>
            <a:ext cx="457200" cy="609840"/>
          </a:xfrm>
          <a:prstGeom prst="downArrow">
            <a:avLst>
              <a:gd name="adj1" fmla="val 50000"/>
              <a:gd name="adj2" fmla="val 54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schlußvortrag zur Diplomarbe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760-F7E1-4E00-BEF8-68C762521A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pyright © 2001 Thomas Dreibholz, Universität Bonn            12. April  2001</a:t>
            </a: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0:00:21Z</dcterms:created>
  <dc:creator>Dreibholz Thomas</dc:creator>
  <dc:description>http://www.bigfoot.com/~dreibholz/diplom
</dc:description>
  <cp:keywords>DiffServ VBR Layer RTP Audio CORAL</cp:keywords>
  <dc:language>en-US</dc:language>
  <cp:lastModifiedBy>Dreibholz Thomas</cp:lastModifiedBy>
  <cp:lastPrinted>2001-04-06T19:23:01Z</cp:lastPrinted>
  <dcterms:modified xsi:type="dcterms:W3CDTF">2001-04-11T16:21:49Z</dcterms:modified>
  <cp:revision>380</cp:revision>
  <dc:subject>Diplomarbeit "Management of Layered Variable Bitrate Multimedia Streams over DiffServ with A Priori Knowledge"</dc:subject>
  <dc:title>Abschlußvortrag zur Diplomarb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